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F5F-0224-4D17-8D61-893E56EB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3AC-E00C-4B3E-862B-68F80F26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334-DE44-4E3C-8015-76BB58E4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11F-F983-4B07-8117-A105A048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769-B613-45F2-BFD6-8A0D2B9D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572-87B1-4AC2-B0C7-A04F3C90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37AC-A4A0-4716-86C4-B2E9A437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F13-B674-4B22-8CFE-D0A4F2D7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0" y="32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648-B276-4FE3-A936-0FE43D8D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C33A-2EEB-44D8-BFD2-02F89048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A56-2091-4C98-92F4-89728D28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E03-0E95-4F28-BC8B-D51CB15F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E872-92F8-4F66-A8B8-FDFE49720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1523880"/>
            <a:ext cx="7086600" cy="44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Arial"/>
              </a:rPr>
              <a:t>LIGHT EMISSION / DE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Lasers and LED Passive Elements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99"/>
                </a:solidFill>
                <a:latin typeface="Tahoma"/>
              </a:rPr>
              <a:t>Piotr Turowi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Poznan Supercomputing and Networking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piotrek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@</a:t>
            </a: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man.poznan.p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Training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9-10 Octo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99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F06-094D-45F1-A986-560DF27E96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itter characteristic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mission related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14240" y="2830680"/>
            <a:ext cx="5120640" cy="3093840"/>
            <a:chOff x="714240" y="2830680"/>
            <a:chExt cx="5120640" cy="3093840"/>
          </a:xfrm>
        </p:grpSpPr>
        <p:grpSp>
          <p:nvGrpSpPr>
            <p:cNvPr id="227" name=""/>
            <p:cNvGrpSpPr/>
            <p:nvPr/>
          </p:nvGrpSpPr>
          <p:grpSpPr>
            <a:xfrm>
              <a:off x="2521080" y="2830680"/>
              <a:ext cx="2028240" cy="846000"/>
              <a:chOff x="2521080" y="2830680"/>
              <a:chExt cx="2028240" cy="846000"/>
            </a:xfrm>
          </p:grpSpPr>
          <p:sp>
            <p:nvSpPr>
              <p:cNvPr id="228" name=""/>
              <p:cNvSpPr/>
              <p:nvPr/>
            </p:nvSpPr>
            <p:spPr>
              <a:xfrm>
                <a:off x="2521800" y="2830680"/>
                <a:ext cx="2027520" cy="8460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21080" y="2918880"/>
                <a:ext cx="2027520" cy="667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21080" y="3067200"/>
                <a:ext cx="2027520" cy="388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2530440" y="3925800"/>
              <a:ext cx="2028600" cy="846360"/>
              <a:chOff x="2530440" y="3925800"/>
              <a:chExt cx="2028600" cy="846360"/>
            </a:xfrm>
          </p:grpSpPr>
          <p:sp>
            <p:nvSpPr>
              <p:cNvPr id="232" name=""/>
              <p:cNvSpPr/>
              <p:nvPr/>
            </p:nvSpPr>
            <p:spPr>
              <a:xfrm>
                <a:off x="2531160" y="3925800"/>
                <a:ext cx="2027880" cy="8463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30440" y="4014000"/>
                <a:ext cx="2027880" cy="66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30440" y="4162320"/>
                <a:ext cx="2027880" cy="3888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2525760" y="5078520"/>
              <a:ext cx="2028240" cy="846000"/>
              <a:chOff x="2525760" y="5078520"/>
              <a:chExt cx="2028240" cy="846000"/>
            </a:xfrm>
          </p:grpSpPr>
          <p:sp>
            <p:nvSpPr>
              <p:cNvPr id="236" name=""/>
              <p:cNvSpPr/>
              <p:nvPr/>
            </p:nvSpPr>
            <p:spPr>
              <a:xfrm>
                <a:off x="2526480" y="5078520"/>
                <a:ext cx="2027520" cy="8460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25760" y="5166720"/>
                <a:ext cx="2027520" cy="667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25760" y="5315040"/>
                <a:ext cx="2027520" cy="388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611360" y="2973240"/>
              <a:ext cx="1131840" cy="56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06680" y="4246560"/>
              <a:ext cx="1131840" cy="21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01640" y="5459400"/>
              <a:ext cx="1132200" cy="100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3680" y="3110040"/>
              <a:ext cx="4579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8920" y="4233960"/>
              <a:ext cx="7628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C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4240" y="5386320"/>
              <a:ext cx="7750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35360" y="3094200"/>
              <a:ext cx="2474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ver Filled Launch  (OF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44000" y="4203720"/>
              <a:ext cx="29815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tricted Mode Launch (RMF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53360" y="5356080"/>
              <a:ext cx="29815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tricted Mode Launch (RMF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362640" y="3054240"/>
            <a:ext cx="2185920" cy="409680"/>
          </a:xfrm>
          <a:custGeom>
            <a:avLst/>
            <a:gdLst/>
            <a:ahLst/>
            <a:rect l="l" t="t" r="r" b="b"/>
            <a:pathLst>
              <a:path w="1277" h="240">
                <a:moveTo>
                  <a:pt x="0" y="232"/>
                </a:moveTo>
                <a:lnTo>
                  <a:pt x="22" y="232"/>
                </a:lnTo>
                <a:lnTo>
                  <a:pt x="52" y="240"/>
                </a:lnTo>
                <a:lnTo>
                  <a:pt x="74" y="240"/>
                </a:lnTo>
                <a:lnTo>
                  <a:pt x="103" y="240"/>
                </a:lnTo>
                <a:lnTo>
                  <a:pt x="125" y="232"/>
                </a:lnTo>
                <a:lnTo>
                  <a:pt x="155" y="232"/>
                </a:lnTo>
                <a:lnTo>
                  <a:pt x="177" y="224"/>
                </a:lnTo>
                <a:lnTo>
                  <a:pt x="207" y="216"/>
                </a:lnTo>
                <a:lnTo>
                  <a:pt x="229" y="208"/>
                </a:lnTo>
                <a:lnTo>
                  <a:pt x="258" y="200"/>
                </a:lnTo>
                <a:lnTo>
                  <a:pt x="280" y="184"/>
                </a:lnTo>
                <a:lnTo>
                  <a:pt x="310" y="168"/>
                </a:lnTo>
                <a:lnTo>
                  <a:pt x="339" y="152"/>
                </a:lnTo>
                <a:lnTo>
                  <a:pt x="362" y="136"/>
                </a:lnTo>
                <a:lnTo>
                  <a:pt x="391" y="112"/>
                </a:lnTo>
                <a:lnTo>
                  <a:pt x="421" y="96"/>
                </a:lnTo>
                <a:lnTo>
                  <a:pt x="443" y="72"/>
                </a:lnTo>
                <a:lnTo>
                  <a:pt x="472" y="48"/>
                </a:lnTo>
                <a:lnTo>
                  <a:pt x="495" y="32"/>
                </a:lnTo>
                <a:lnTo>
                  <a:pt x="524" y="24"/>
                </a:lnTo>
                <a:lnTo>
                  <a:pt x="546" y="16"/>
                </a:lnTo>
                <a:lnTo>
                  <a:pt x="576" y="8"/>
                </a:lnTo>
                <a:lnTo>
                  <a:pt x="598" y="0"/>
                </a:lnTo>
                <a:lnTo>
                  <a:pt x="627" y="0"/>
                </a:lnTo>
                <a:lnTo>
                  <a:pt x="650" y="0"/>
                </a:lnTo>
                <a:lnTo>
                  <a:pt x="679" y="0"/>
                </a:lnTo>
                <a:lnTo>
                  <a:pt x="701" y="8"/>
                </a:lnTo>
                <a:lnTo>
                  <a:pt x="731" y="16"/>
                </a:lnTo>
                <a:lnTo>
                  <a:pt x="753" y="32"/>
                </a:lnTo>
                <a:lnTo>
                  <a:pt x="782" y="48"/>
                </a:lnTo>
                <a:lnTo>
                  <a:pt x="805" y="64"/>
                </a:lnTo>
                <a:lnTo>
                  <a:pt x="834" y="88"/>
                </a:lnTo>
                <a:lnTo>
                  <a:pt x="856" y="104"/>
                </a:lnTo>
                <a:lnTo>
                  <a:pt x="878" y="120"/>
                </a:lnTo>
                <a:lnTo>
                  <a:pt x="908" y="144"/>
                </a:lnTo>
                <a:lnTo>
                  <a:pt x="930" y="160"/>
                </a:lnTo>
                <a:lnTo>
                  <a:pt x="960" y="168"/>
                </a:lnTo>
                <a:lnTo>
                  <a:pt x="989" y="184"/>
                </a:lnTo>
                <a:lnTo>
                  <a:pt x="1011" y="192"/>
                </a:lnTo>
                <a:lnTo>
                  <a:pt x="1041" y="208"/>
                </a:lnTo>
                <a:lnTo>
                  <a:pt x="1070" y="216"/>
                </a:lnTo>
                <a:lnTo>
                  <a:pt x="1100" y="216"/>
                </a:lnTo>
                <a:lnTo>
                  <a:pt x="1122" y="224"/>
                </a:lnTo>
                <a:lnTo>
                  <a:pt x="1152" y="232"/>
                </a:lnTo>
                <a:lnTo>
                  <a:pt x="1181" y="232"/>
                </a:lnTo>
                <a:lnTo>
                  <a:pt x="1211" y="232"/>
                </a:lnTo>
                <a:lnTo>
                  <a:pt x="1240" y="232"/>
                </a:lnTo>
                <a:lnTo>
                  <a:pt x="1277" y="232"/>
                </a:lnTo>
              </a:path>
            </a:pathLst>
          </a:custGeom>
          <a:noFill/>
          <a:ln w="23760">
            <a:solidFill>
              <a:srgbClr val="d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84920" y="3924360"/>
            <a:ext cx="1330560" cy="1006560"/>
          </a:xfrm>
          <a:custGeom>
            <a:avLst/>
            <a:gdLst/>
            <a:ahLst/>
            <a:rect l="l" t="t" r="r" b="b"/>
            <a:pathLst>
              <a:path w="1277" h="240">
                <a:moveTo>
                  <a:pt x="0" y="232"/>
                </a:moveTo>
                <a:lnTo>
                  <a:pt x="22" y="232"/>
                </a:lnTo>
                <a:lnTo>
                  <a:pt x="52" y="240"/>
                </a:lnTo>
                <a:lnTo>
                  <a:pt x="74" y="240"/>
                </a:lnTo>
                <a:lnTo>
                  <a:pt x="103" y="240"/>
                </a:lnTo>
                <a:lnTo>
                  <a:pt x="125" y="232"/>
                </a:lnTo>
                <a:lnTo>
                  <a:pt x="155" y="232"/>
                </a:lnTo>
                <a:lnTo>
                  <a:pt x="177" y="224"/>
                </a:lnTo>
                <a:lnTo>
                  <a:pt x="207" y="216"/>
                </a:lnTo>
                <a:lnTo>
                  <a:pt x="229" y="208"/>
                </a:lnTo>
                <a:lnTo>
                  <a:pt x="258" y="200"/>
                </a:lnTo>
                <a:lnTo>
                  <a:pt x="280" y="184"/>
                </a:lnTo>
                <a:lnTo>
                  <a:pt x="310" y="168"/>
                </a:lnTo>
                <a:lnTo>
                  <a:pt x="339" y="152"/>
                </a:lnTo>
                <a:lnTo>
                  <a:pt x="362" y="136"/>
                </a:lnTo>
                <a:lnTo>
                  <a:pt x="391" y="112"/>
                </a:lnTo>
                <a:lnTo>
                  <a:pt x="421" y="96"/>
                </a:lnTo>
                <a:lnTo>
                  <a:pt x="443" y="72"/>
                </a:lnTo>
                <a:lnTo>
                  <a:pt x="472" y="48"/>
                </a:lnTo>
                <a:lnTo>
                  <a:pt x="495" y="32"/>
                </a:lnTo>
                <a:lnTo>
                  <a:pt x="524" y="24"/>
                </a:lnTo>
                <a:lnTo>
                  <a:pt x="546" y="16"/>
                </a:lnTo>
                <a:lnTo>
                  <a:pt x="576" y="8"/>
                </a:lnTo>
                <a:lnTo>
                  <a:pt x="598" y="0"/>
                </a:lnTo>
                <a:lnTo>
                  <a:pt x="627" y="0"/>
                </a:lnTo>
                <a:lnTo>
                  <a:pt x="650" y="0"/>
                </a:lnTo>
                <a:lnTo>
                  <a:pt x="679" y="0"/>
                </a:lnTo>
                <a:lnTo>
                  <a:pt x="701" y="8"/>
                </a:lnTo>
                <a:lnTo>
                  <a:pt x="731" y="16"/>
                </a:lnTo>
                <a:lnTo>
                  <a:pt x="753" y="32"/>
                </a:lnTo>
                <a:lnTo>
                  <a:pt x="782" y="48"/>
                </a:lnTo>
                <a:lnTo>
                  <a:pt x="805" y="64"/>
                </a:lnTo>
                <a:lnTo>
                  <a:pt x="834" y="88"/>
                </a:lnTo>
                <a:lnTo>
                  <a:pt x="856" y="104"/>
                </a:lnTo>
                <a:lnTo>
                  <a:pt x="878" y="120"/>
                </a:lnTo>
                <a:lnTo>
                  <a:pt x="908" y="144"/>
                </a:lnTo>
                <a:lnTo>
                  <a:pt x="930" y="160"/>
                </a:lnTo>
                <a:lnTo>
                  <a:pt x="960" y="168"/>
                </a:lnTo>
                <a:lnTo>
                  <a:pt x="989" y="184"/>
                </a:lnTo>
                <a:lnTo>
                  <a:pt x="1011" y="192"/>
                </a:lnTo>
                <a:lnTo>
                  <a:pt x="1041" y="208"/>
                </a:lnTo>
                <a:lnTo>
                  <a:pt x="1070" y="216"/>
                </a:lnTo>
                <a:lnTo>
                  <a:pt x="1100" y="216"/>
                </a:lnTo>
                <a:lnTo>
                  <a:pt x="1122" y="224"/>
                </a:lnTo>
                <a:lnTo>
                  <a:pt x="1152" y="232"/>
                </a:lnTo>
                <a:lnTo>
                  <a:pt x="1181" y="232"/>
                </a:lnTo>
                <a:lnTo>
                  <a:pt x="1211" y="232"/>
                </a:lnTo>
                <a:lnTo>
                  <a:pt x="1240" y="232"/>
                </a:lnTo>
                <a:lnTo>
                  <a:pt x="1277" y="232"/>
                </a:lnTo>
              </a:path>
            </a:pathLst>
          </a:custGeom>
          <a:noFill/>
          <a:ln w="23760">
            <a:solidFill>
              <a:srgbClr val="d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26360" y="4819680"/>
            <a:ext cx="270000" cy="1193760"/>
          </a:xfrm>
          <a:custGeom>
            <a:avLst/>
            <a:gdLst/>
            <a:ahLst/>
            <a:rect l="l" t="t" r="r" b="b"/>
            <a:pathLst>
              <a:path w="1277" h="240">
                <a:moveTo>
                  <a:pt x="0" y="232"/>
                </a:moveTo>
                <a:lnTo>
                  <a:pt x="22" y="232"/>
                </a:lnTo>
                <a:lnTo>
                  <a:pt x="52" y="240"/>
                </a:lnTo>
                <a:lnTo>
                  <a:pt x="74" y="240"/>
                </a:lnTo>
                <a:lnTo>
                  <a:pt x="103" y="240"/>
                </a:lnTo>
                <a:lnTo>
                  <a:pt x="125" y="232"/>
                </a:lnTo>
                <a:lnTo>
                  <a:pt x="155" y="232"/>
                </a:lnTo>
                <a:lnTo>
                  <a:pt x="177" y="224"/>
                </a:lnTo>
                <a:lnTo>
                  <a:pt x="207" y="216"/>
                </a:lnTo>
                <a:lnTo>
                  <a:pt x="229" y="208"/>
                </a:lnTo>
                <a:lnTo>
                  <a:pt x="258" y="200"/>
                </a:lnTo>
                <a:lnTo>
                  <a:pt x="280" y="184"/>
                </a:lnTo>
                <a:lnTo>
                  <a:pt x="310" y="168"/>
                </a:lnTo>
                <a:lnTo>
                  <a:pt x="339" y="152"/>
                </a:lnTo>
                <a:lnTo>
                  <a:pt x="362" y="136"/>
                </a:lnTo>
                <a:lnTo>
                  <a:pt x="391" y="112"/>
                </a:lnTo>
                <a:lnTo>
                  <a:pt x="421" y="96"/>
                </a:lnTo>
                <a:lnTo>
                  <a:pt x="443" y="72"/>
                </a:lnTo>
                <a:lnTo>
                  <a:pt x="472" y="48"/>
                </a:lnTo>
                <a:lnTo>
                  <a:pt x="495" y="32"/>
                </a:lnTo>
                <a:lnTo>
                  <a:pt x="524" y="24"/>
                </a:lnTo>
                <a:lnTo>
                  <a:pt x="546" y="16"/>
                </a:lnTo>
                <a:lnTo>
                  <a:pt x="576" y="8"/>
                </a:lnTo>
                <a:lnTo>
                  <a:pt x="598" y="0"/>
                </a:lnTo>
                <a:lnTo>
                  <a:pt x="627" y="0"/>
                </a:lnTo>
                <a:lnTo>
                  <a:pt x="650" y="0"/>
                </a:lnTo>
                <a:lnTo>
                  <a:pt x="679" y="0"/>
                </a:lnTo>
                <a:lnTo>
                  <a:pt x="701" y="8"/>
                </a:lnTo>
                <a:lnTo>
                  <a:pt x="731" y="16"/>
                </a:lnTo>
                <a:lnTo>
                  <a:pt x="753" y="32"/>
                </a:lnTo>
                <a:lnTo>
                  <a:pt x="782" y="48"/>
                </a:lnTo>
                <a:lnTo>
                  <a:pt x="805" y="64"/>
                </a:lnTo>
                <a:lnTo>
                  <a:pt x="834" y="88"/>
                </a:lnTo>
                <a:lnTo>
                  <a:pt x="856" y="104"/>
                </a:lnTo>
                <a:lnTo>
                  <a:pt x="878" y="120"/>
                </a:lnTo>
                <a:lnTo>
                  <a:pt x="908" y="144"/>
                </a:lnTo>
                <a:lnTo>
                  <a:pt x="930" y="160"/>
                </a:lnTo>
                <a:lnTo>
                  <a:pt x="960" y="168"/>
                </a:lnTo>
                <a:lnTo>
                  <a:pt x="989" y="184"/>
                </a:lnTo>
                <a:lnTo>
                  <a:pt x="1011" y="192"/>
                </a:lnTo>
                <a:lnTo>
                  <a:pt x="1041" y="208"/>
                </a:lnTo>
                <a:lnTo>
                  <a:pt x="1070" y="216"/>
                </a:lnTo>
                <a:lnTo>
                  <a:pt x="1100" y="216"/>
                </a:lnTo>
                <a:lnTo>
                  <a:pt x="1122" y="224"/>
                </a:lnTo>
                <a:lnTo>
                  <a:pt x="1152" y="232"/>
                </a:lnTo>
                <a:lnTo>
                  <a:pt x="1181" y="232"/>
                </a:lnTo>
                <a:lnTo>
                  <a:pt x="1211" y="232"/>
                </a:lnTo>
                <a:lnTo>
                  <a:pt x="1240" y="232"/>
                </a:lnTo>
                <a:lnTo>
                  <a:pt x="1277" y="232"/>
                </a:lnTo>
              </a:path>
            </a:pathLst>
          </a:custGeom>
          <a:noFill/>
          <a:ln w="23760">
            <a:solidFill>
              <a:srgbClr val="d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523880"/>
            <a:ext cx="88390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itters inject light into fiber under different conditions (emitter physical characteristi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 travel consequently                       Power is distributed consequ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535-E76C-4910-8EA5-5D2AC51CF6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itters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495440" y="4176720"/>
            <a:ext cx="1788840" cy="1198440"/>
            <a:chOff x="1495440" y="4176720"/>
            <a:chExt cx="1788840" cy="1198440"/>
          </a:xfrm>
        </p:grpSpPr>
        <p:sp>
          <p:nvSpPr>
            <p:cNvPr id="256" name=""/>
            <p:cNvSpPr/>
            <p:nvPr/>
          </p:nvSpPr>
          <p:spPr>
            <a:xfrm>
              <a:off x="1591920" y="4250520"/>
              <a:ext cx="322200" cy="31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13800" y="4375440"/>
              <a:ext cx="8568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61400" y="4376880"/>
              <a:ext cx="20988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28160" y="4176720"/>
              <a:ext cx="337320" cy="1198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87600" y="4998960"/>
              <a:ext cx="322200" cy="31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95440" y="5123880"/>
              <a:ext cx="85680" cy="8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56360" y="5125320"/>
              <a:ext cx="21024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80960" y="4294800"/>
              <a:ext cx="111960" cy="21636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6200000">
              <a:off x="2725200" y="3960720"/>
              <a:ext cx="216360" cy="883800"/>
            </a:xfrm>
            <a:custGeom>
              <a:avLst/>
              <a:gdLst>
                <a:gd name="textAreaLeft" fmla="*/ 47520 w 216360"/>
                <a:gd name="textAreaRight" fmla="*/ 168840 w 216360"/>
                <a:gd name="textAreaTop" fmla="*/ 194400 h 883800"/>
                <a:gd name="textAreaBottom" fmla="*/ 689400 h 88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90320" y="5043240"/>
              <a:ext cx="111960" cy="21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2734200" y="4709160"/>
              <a:ext cx="216000" cy="883800"/>
            </a:xfrm>
            <a:custGeom>
              <a:avLst/>
              <a:gdLst>
                <a:gd name="textAreaLeft" fmla="*/ 47520 w 216000"/>
                <a:gd name="textAreaRight" fmla="*/ 168480 w 216000"/>
                <a:gd name="textAreaTop" fmla="*/ 194400 h 883800"/>
                <a:gd name="textAreaBottom" fmla="*/ 689400 h 88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008400" y="4190760"/>
            <a:ext cx="1789200" cy="1198440"/>
            <a:chOff x="6008400" y="4190760"/>
            <a:chExt cx="1789200" cy="1198440"/>
          </a:xfrm>
        </p:grpSpPr>
        <p:sp>
          <p:nvSpPr>
            <p:cNvPr id="268" name=""/>
            <p:cNvSpPr/>
            <p:nvPr/>
          </p:nvSpPr>
          <p:spPr>
            <a:xfrm rot="10800000">
              <a:off x="7378560" y="4997520"/>
              <a:ext cx="322200" cy="31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7693560" y="5103360"/>
              <a:ext cx="8568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7419960" y="5101920"/>
              <a:ext cx="20988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0800000">
              <a:off x="7027200" y="4190760"/>
              <a:ext cx="337320" cy="1198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0800000">
              <a:off x="7382880" y="4249440"/>
              <a:ext cx="322200" cy="31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0800000">
              <a:off x="7711920" y="4354920"/>
              <a:ext cx="8568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800000">
              <a:off x="7424280" y="4353480"/>
              <a:ext cx="20988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800000">
              <a:off x="6898320" y="5055120"/>
              <a:ext cx="111960" cy="21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6351120" y="4721040"/>
              <a:ext cx="216000" cy="883800"/>
            </a:xfrm>
            <a:custGeom>
              <a:avLst/>
              <a:gdLst>
                <a:gd name="textAreaLeft" fmla="*/ 47520 w 216000"/>
                <a:gd name="textAreaRight" fmla="*/ 168480 w 216000"/>
                <a:gd name="textAreaTop" fmla="*/ 194400 h 883800"/>
                <a:gd name="textAreaBottom" fmla="*/ 689400 h 88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0800000">
              <a:off x="6903000" y="4305960"/>
              <a:ext cx="111960" cy="21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5400000">
              <a:off x="6342120" y="3972600"/>
              <a:ext cx="216360" cy="883800"/>
            </a:xfrm>
            <a:custGeom>
              <a:avLst/>
              <a:gdLst>
                <a:gd name="textAreaLeft" fmla="*/ 47520 w 216360"/>
                <a:gd name="textAreaRight" fmla="*/ 168840 w 216360"/>
                <a:gd name="textAreaTop" fmla="*/ 194400 h 883800"/>
                <a:gd name="textAreaBottom" fmla="*/ 689400 h 88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3262320" y="4363920"/>
            <a:ext cx="2763720" cy="101880"/>
          </a:xfrm>
          <a:prstGeom prst="rect">
            <a:avLst/>
          </a:pr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57640" y="5113440"/>
            <a:ext cx="2765160" cy="101520"/>
          </a:xfrm>
          <a:prstGeom prst="rect">
            <a:avLst/>
          </a:pr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30720" y="4927680"/>
            <a:ext cx="1009440" cy="43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52480" y="4976640"/>
            <a:ext cx="5554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99320" y="4038480"/>
            <a:ext cx="15642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e Fi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10440" y="4789440"/>
            <a:ext cx="3391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36720" y="4799160"/>
            <a:ext cx="3056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320" y="4091040"/>
            <a:ext cx="1331640" cy="138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5000" y="4408560"/>
            <a:ext cx="10904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17360" y="4240080"/>
            <a:ext cx="3726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23560" y="5018040"/>
            <a:ext cx="259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0480" y="4192560"/>
            <a:ext cx="49212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69840" y="4954680"/>
            <a:ext cx="490680" cy="43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31760" y="5043600"/>
            <a:ext cx="4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72800" y="4976640"/>
            <a:ext cx="259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851600" y="4078440"/>
            <a:ext cx="11797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035200" y="4584600"/>
            <a:ext cx="7430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b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037120" y="5738760"/>
            <a:ext cx="1147680" cy="595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37120" y="5800680"/>
            <a:ext cx="1147680" cy="469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37120" y="5905440"/>
            <a:ext cx="1147680" cy="273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73760" y="6040440"/>
            <a:ext cx="1685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60920" y="5819760"/>
            <a:ext cx="1147680" cy="595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60920" y="5886360"/>
            <a:ext cx="1147680" cy="470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60920" y="6086520"/>
            <a:ext cx="1147680" cy="10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59320" y="6135840"/>
            <a:ext cx="1685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24160" y="5508720"/>
            <a:ext cx="3508560" cy="1220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430080" y="5348160"/>
            <a:ext cx="800280" cy="46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27560" y="5348160"/>
            <a:ext cx="102384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1523880"/>
            <a:ext cx="838188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, emitters can be optimized for fiber they have to illu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to reduce effects of DM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Differential Mode Delay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Base-LX is used on MM as well as 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SEL cannot be optim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D optimization is achieved by Conditioned Patch Cord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54C-C41D-4CD8-BE0D-740B9D3FD2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principle of an optical commun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939960" y="2557440"/>
            <a:ext cx="7519680" cy="1709640"/>
            <a:chOff x="939960" y="2557440"/>
            <a:chExt cx="7519680" cy="1709640"/>
          </a:xfrm>
        </p:grpSpPr>
        <p:sp>
          <p:nvSpPr>
            <p:cNvPr id="312" name=""/>
            <p:cNvSpPr/>
            <p:nvPr/>
          </p:nvSpPr>
          <p:spPr>
            <a:xfrm>
              <a:off x="4119840" y="2557440"/>
              <a:ext cx="13935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ransmi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1278000" y="3236760"/>
              <a:ext cx="7021440" cy="1030320"/>
              <a:chOff x="1278000" y="3236760"/>
              <a:chExt cx="7021440" cy="1030320"/>
            </a:xfrm>
          </p:grpSpPr>
          <p:sp>
            <p:nvSpPr>
              <p:cNvPr id="314" name=""/>
              <p:cNvSpPr/>
              <p:nvPr/>
            </p:nvSpPr>
            <p:spPr>
              <a:xfrm>
                <a:off x="1278000" y="3601800"/>
                <a:ext cx="649440" cy="665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1943280" y="3930480"/>
                <a:ext cx="57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377720" y="3762000"/>
                <a:ext cx="451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T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2517840" y="3596760"/>
                <a:ext cx="1017720" cy="665640"/>
                <a:chOff x="2517840" y="3596760"/>
                <a:chExt cx="1017720" cy="6656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517840" y="3597120"/>
                  <a:ext cx="1017720" cy="665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2525760" y="3596760"/>
                  <a:ext cx="1008000" cy="65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562120" y="364464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128400" y="3875040"/>
                <a:ext cx="36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7085160" y="3931920"/>
                <a:ext cx="57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75560" y="3590640"/>
                <a:ext cx="623880" cy="665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745400" y="3752640"/>
                <a:ext cx="476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R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59520" y="3598560"/>
                <a:ext cx="1017720" cy="665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6067440" y="3611160"/>
                <a:ext cx="1008000" cy="63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81120" y="3627360"/>
                <a:ext cx="36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08600" y="387000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3537000" y="3236760"/>
                <a:ext cx="2517480" cy="698400"/>
                <a:chOff x="3537000" y="3236760"/>
                <a:chExt cx="2517480" cy="6984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537000" y="3930480"/>
                  <a:ext cx="251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460760" y="3236760"/>
                  <a:ext cx="635040" cy="698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" name=""/>
            <p:cNvSpPr/>
            <p:nvPr/>
          </p:nvSpPr>
          <p:spPr>
            <a:xfrm>
              <a:off x="7472880" y="2557440"/>
              <a:ext cx="9867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15600" y="2557440"/>
              <a:ext cx="11422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nver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39960" y="2557440"/>
              <a:ext cx="13402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ansmi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58080" y="2557440"/>
              <a:ext cx="11862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ver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5680080" y="2306520"/>
            <a:ext cx="1900080" cy="254016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66F-AC23-489A-A813-4DCFCCF753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light to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2120" y="1752480"/>
            <a:ext cx="8381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from light to electricity is achieved by photodetector/receiver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riggered by modulated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s modulated light  into modulated electrical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characteristic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0ABA-E8C5-40CF-8E0D-7C5DB92B78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r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minimum power that is detected by the receiver with BER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max allowed error counted in bit in error/bit transmit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 is function of sensitivity among others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maximum average power  received to maintain 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power causes distortion and 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less power causes no bi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causes BER in excess of specified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range is expressed as dif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min. and m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378-AAC7-400A-8542-CF3E609E13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tral sensitivity of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133720" y="2220840"/>
            <a:ext cx="5471640" cy="3798720"/>
            <a:chOff x="2133720" y="2220840"/>
            <a:chExt cx="5471640" cy="379872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2133720" y="2220840"/>
              <a:ext cx="5128200" cy="37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2135160" y="4346640"/>
              <a:ext cx="5470200" cy="167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54320" y="4659480"/>
            <a:ext cx="84009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 used in electronic manufacturing determine the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and temperature regulate response in amplitude and time (slo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D94-E94C-4C3A-A419-8C1AD6D591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width limitations dependent on 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21337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ing time (or rise time, or slope) is affecting the width of the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th of signal is determining the spreading of the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 spreading is the cause of bandwidth limi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width limitation in a fiber channel is therefore function of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bandwid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nown fa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ibution of electron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ctive components depend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of the chann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nown or to be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964920" y="5232240"/>
            <a:ext cx="1637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x eq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410080" y="4800600"/>
            <a:ext cx="0" cy="8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5686560"/>
            <a:ext cx="147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88080" y="4815000"/>
            <a:ext cx="0" cy="59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02480" y="540540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C5C-2DA8-410D-A648-0840D7AF52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99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05120" y="1523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99"/>
                </a:solidFill>
                <a:latin typeface="Arial"/>
              </a:rPr>
              <a:t>Passive FO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741-3901-4708-A718-E1C5BEB78D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ass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23880" y="1447920"/>
            <a:ext cx="472464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assive elements in Optical Net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tical 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liter/comb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UX/DM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d M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iber Bragg grating based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ir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so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ten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485-9949-4D75-B8F0-35C357D3C8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441440"/>
            <a:ext cx="8077320" cy="50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 general, multiplexer/demultiplexers for DWDM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equired to have the following optical 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mall center wavelength offset from grid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permissible center wavelength offset depends on the transmission spectrum of the MUX and the transmission bit rate of the system, but is normally not more than 0.05 n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ow insertion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s in the case of other FO transmission devices,insertion loss should ideally be as low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ow channel cross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annel crosstalk in terms of a specific MUX channel n is expressed as the difference between the insertion loss at the grid wavelength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of channel n and the insertion loss at the grid wavelength of the respective channel. Channel crosstalk should be as low as possibl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-25 dB or bet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EQUIRED OPTICAL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7E7-1633-45F6-893E-72F01E7CD8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IGHT EMISSION /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39960" y="2892600"/>
            <a:ext cx="7519680" cy="1709640"/>
            <a:chOff x="939960" y="2892600"/>
            <a:chExt cx="7519680" cy="1709640"/>
          </a:xfrm>
        </p:grpSpPr>
        <p:sp>
          <p:nvSpPr>
            <p:cNvPr id="48" name=""/>
            <p:cNvSpPr/>
            <p:nvPr/>
          </p:nvSpPr>
          <p:spPr>
            <a:xfrm>
              <a:off x="4119840" y="2892600"/>
              <a:ext cx="13935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ransmi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278000" y="3571920"/>
              <a:ext cx="7021440" cy="1030320"/>
              <a:chOff x="1278000" y="3571920"/>
              <a:chExt cx="7021440" cy="1030320"/>
            </a:xfrm>
          </p:grpSpPr>
          <p:sp>
            <p:nvSpPr>
              <p:cNvPr id="50" name=""/>
              <p:cNvSpPr/>
              <p:nvPr/>
            </p:nvSpPr>
            <p:spPr>
              <a:xfrm>
                <a:off x="1278000" y="3936960"/>
                <a:ext cx="649440" cy="665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1943280" y="4265640"/>
                <a:ext cx="57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77720" y="4097160"/>
                <a:ext cx="451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T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2517840" y="3931920"/>
                <a:ext cx="1017720" cy="665640"/>
                <a:chOff x="2517840" y="3931920"/>
                <a:chExt cx="1017720" cy="66564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2517840" y="3932280"/>
                  <a:ext cx="1017720" cy="665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V="1">
                  <a:off x="2525760" y="3931920"/>
                  <a:ext cx="1008000" cy="65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" name=""/>
              <p:cNvSpPr/>
              <p:nvPr/>
            </p:nvSpPr>
            <p:spPr>
              <a:xfrm>
                <a:off x="2562120" y="397980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128400" y="4210200"/>
                <a:ext cx="36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7085160" y="4267080"/>
                <a:ext cx="57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75560" y="3925800"/>
                <a:ext cx="623880" cy="665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745400" y="4087800"/>
                <a:ext cx="476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R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059520" y="3933720"/>
                <a:ext cx="1017720" cy="665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6067440" y="3946320"/>
                <a:ext cx="1008000" cy="63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81120" y="3962520"/>
                <a:ext cx="36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708600" y="420516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3537000" y="3571920"/>
                <a:ext cx="2517480" cy="698400"/>
                <a:chOff x="3537000" y="3571920"/>
                <a:chExt cx="2517480" cy="6984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537000" y="4265640"/>
                  <a:ext cx="251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460760" y="3571920"/>
                  <a:ext cx="635040" cy="698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" name=""/>
            <p:cNvSpPr/>
            <p:nvPr/>
          </p:nvSpPr>
          <p:spPr>
            <a:xfrm>
              <a:off x="7472880" y="2892600"/>
              <a:ext cx="9867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49080" y="2892600"/>
              <a:ext cx="10749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ver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39960" y="2892600"/>
              <a:ext cx="13402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ansmi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19920" y="2892600"/>
              <a:ext cx="12625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nver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136600" y="2641680"/>
            <a:ext cx="1900440" cy="253980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4479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nciple of an optical commun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0353-3D3D-4762-B3D8-3021DEC042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105520" y="1949040"/>
            <a:ext cx="3039840" cy="641880"/>
            <a:chOff x="5105520" y="1949040"/>
            <a:chExt cx="3039840" cy="641880"/>
          </a:xfrm>
        </p:grpSpPr>
        <p:grpSp>
          <p:nvGrpSpPr>
            <p:cNvPr id="376" name=""/>
            <p:cNvGrpSpPr/>
            <p:nvPr/>
          </p:nvGrpSpPr>
          <p:grpSpPr>
            <a:xfrm>
              <a:off x="5105520" y="1949040"/>
              <a:ext cx="1828800" cy="641880"/>
              <a:chOff x="5105520" y="1949040"/>
              <a:chExt cx="1828800" cy="641880"/>
            </a:xfrm>
          </p:grpSpPr>
          <p:sp>
            <p:nvSpPr>
              <p:cNvPr id="377" name=""/>
              <p:cNvSpPr/>
              <p:nvPr/>
            </p:nvSpPr>
            <p:spPr>
              <a:xfrm>
                <a:off x="5105520" y="2224080"/>
                <a:ext cx="822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5927760" y="1949040"/>
                <a:ext cx="731880" cy="2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927760" y="2224080"/>
                <a:ext cx="641160" cy="36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197320" y="2131920"/>
                <a:ext cx="5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6477120" y="1949040"/>
                <a:ext cx="45720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388200" y="2314440"/>
                <a:ext cx="45720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7162920" y="2063880"/>
              <a:ext cx="98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split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33520" y="1989000"/>
            <a:ext cx="3230280" cy="549000"/>
            <a:chOff x="533520" y="1989000"/>
            <a:chExt cx="3230280" cy="549000"/>
          </a:xfrm>
        </p:grpSpPr>
        <p:grpSp>
          <p:nvGrpSpPr>
            <p:cNvPr id="385" name=""/>
            <p:cNvGrpSpPr/>
            <p:nvPr/>
          </p:nvGrpSpPr>
          <p:grpSpPr>
            <a:xfrm>
              <a:off x="533520" y="1989000"/>
              <a:ext cx="1828800" cy="549000"/>
              <a:chOff x="533520" y="1989000"/>
              <a:chExt cx="1828800" cy="549000"/>
            </a:xfrm>
          </p:grpSpPr>
          <p:sp>
            <p:nvSpPr>
              <p:cNvPr id="386" name=""/>
              <p:cNvSpPr/>
              <p:nvPr/>
            </p:nvSpPr>
            <p:spPr>
              <a:xfrm>
                <a:off x="808200" y="1989000"/>
                <a:ext cx="731520" cy="2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808200" y="2263320"/>
                <a:ext cx="699840" cy="2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39720" y="2263680"/>
                <a:ext cx="822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33520" y="1989000"/>
                <a:ext cx="45720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533520" y="2355480"/>
                <a:ext cx="45720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722600" y="2171880"/>
                <a:ext cx="5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2666880" y="2081160"/>
              <a:ext cx="10969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combi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360360" y="2903400"/>
            <a:ext cx="3479760" cy="1189080"/>
            <a:chOff x="360360" y="2903400"/>
            <a:chExt cx="3479760" cy="1189080"/>
          </a:xfrm>
        </p:grpSpPr>
        <p:grpSp>
          <p:nvGrpSpPr>
            <p:cNvPr id="394" name=""/>
            <p:cNvGrpSpPr/>
            <p:nvPr/>
          </p:nvGrpSpPr>
          <p:grpSpPr>
            <a:xfrm>
              <a:off x="360360" y="2903400"/>
              <a:ext cx="2560680" cy="1189080"/>
              <a:chOff x="360360" y="2903400"/>
              <a:chExt cx="2560680" cy="1189080"/>
            </a:xfrm>
          </p:grpSpPr>
          <p:sp>
            <p:nvSpPr>
              <p:cNvPr id="395" name=""/>
              <p:cNvSpPr/>
              <p:nvPr/>
            </p:nvSpPr>
            <p:spPr>
              <a:xfrm>
                <a:off x="634680" y="3086280"/>
                <a:ext cx="64008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274760" y="3452040"/>
                <a:ext cx="731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634680" y="3452040"/>
                <a:ext cx="64008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06640" y="3452040"/>
                <a:ext cx="64008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2006640" y="3086280"/>
                <a:ext cx="64008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60360" y="2903400"/>
                <a:ext cx="274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0360" y="3818160"/>
                <a:ext cx="274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646720" y="2903400"/>
                <a:ext cx="274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646720" y="3818160"/>
                <a:ext cx="274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43200" y="3268440"/>
              <a:ext cx="109692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coup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130720" y="3078000"/>
            <a:ext cx="3357720" cy="731520"/>
            <a:chOff x="5130720" y="3078000"/>
            <a:chExt cx="3357720" cy="731520"/>
          </a:xfrm>
        </p:grpSpPr>
        <p:grpSp>
          <p:nvGrpSpPr>
            <p:cNvPr id="406" name=""/>
            <p:cNvGrpSpPr/>
            <p:nvPr/>
          </p:nvGrpSpPr>
          <p:grpSpPr>
            <a:xfrm>
              <a:off x="5130720" y="3078000"/>
              <a:ext cx="2103480" cy="731520"/>
              <a:chOff x="5130720" y="3078000"/>
              <a:chExt cx="2103480" cy="73152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6685560" y="3078000"/>
                <a:ext cx="548640" cy="731520"/>
                <a:chOff x="6685560" y="3078000"/>
                <a:chExt cx="548640" cy="731520"/>
              </a:xfrm>
            </p:grpSpPr>
            <p:sp>
              <p:nvSpPr>
                <p:cNvPr id="408" name=""/>
                <p:cNvSpPr/>
                <p:nvPr/>
              </p:nvSpPr>
              <p:spPr>
                <a:xfrm flipH="1">
                  <a:off x="6685560" y="3078000"/>
                  <a:ext cx="548640" cy="36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 flipV="1">
                  <a:off x="6685560" y="3443760"/>
                  <a:ext cx="548640" cy="36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6685560" y="3169440"/>
                  <a:ext cx="548640" cy="27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>
                  <a:off x="6685560" y="3260880"/>
                  <a:ext cx="548640" cy="182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>
                  <a:off x="6685560" y="3352320"/>
                  <a:ext cx="548640" cy="9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 flipV="1">
                  <a:off x="6685560" y="3443760"/>
                  <a:ext cx="548640" cy="27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 flipV="1">
                  <a:off x="6685560" y="3443760"/>
                  <a:ext cx="548640" cy="182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 flipV="1">
                  <a:off x="6685560" y="3443760"/>
                  <a:ext cx="548640" cy="9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5130720" y="3078000"/>
                <a:ext cx="548640" cy="731520"/>
                <a:chOff x="5130720" y="3078000"/>
                <a:chExt cx="548640" cy="7315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5130720" y="3078000"/>
                  <a:ext cx="548640" cy="36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5130720" y="3443760"/>
                  <a:ext cx="548640" cy="36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130720" y="3169440"/>
                  <a:ext cx="548640" cy="27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130720" y="3260880"/>
                  <a:ext cx="548640" cy="182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130720" y="3352320"/>
                  <a:ext cx="548640" cy="9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5130720" y="3443760"/>
                  <a:ext cx="548640" cy="27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5130720" y="3443760"/>
                  <a:ext cx="548640" cy="182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5130720" y="3443760"/>
                  <a:ext cx="548640" cy="9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5679360" y="3443760"/>
                <a:ext cx="1005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7391520" y="3276360"/>
              <a:ext cx="10969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star coup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80880" y="4876920"/>
            <a:ext cx="3870360" cy="806400"/>
            <a:chOff x="380880" y="4876920"/>
            <a:chExt cx="3870360" cy="806400"/>
          </a:xfrm>
        </p:grpSpPr>
        <p:grpSp>
          <p:nvGrpSpPr>
            <p:cNvPr id="428" name=""/>
            <p:cNvGrpSpPr/>
            <p:nvPr/>
          </p:nvGrpSpPr>
          <p:grpSpPr>
            <a:xfrm>
              <a:off x="380880" y="4876920"/>
              <a:ext cx="1889280" cy="806400"/>
              <a:chOff x="380880" y="4876920"/>
              <a:chExt cx="1889280" cy="806400"/>
            </a:xfrm>
          </p:grpSpPr>
          <p:sp>
            <p:nvSpPr>
              <p:cNvPr id="429" name=""/>
              <p:cNvSpPr/>
              <p:nvPr/>
            </p:nvSpPr>
            <p:spPr>
              <a:xfrm>
                <a:off x="473040" y="5045040"/>
                <a:ext cx="730440" cy="27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473040" y="5318280"/>
                <a:ext cx="730440" cy="2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203480" y="5315040"/>
                <a:ext cx="1066680" cy="3240"/>
              </a:xfrm>
              <a:custGeom>
                <a:avLst/>
                <a:gdLst/>
                <a:ahLst/>
                <a:rect l="l" t="t" r="r" b="b"/>
                <a:pathLst>
                  <a:path w="1680" h="6">
                    <a:moveTo>
                      <a:pt x="0" y="6"/>
                    </a:moveTo>
                    <a:lnTo>
                      <a:pt x="16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562040" y="5238720"/>
                <a:ext cx="631800" cy="360"/>
              </a:xfrm>
              <a:custGeom>
                <a:avLst/>
                <a:gdLst/>
                <a:ahLst/>
                <a:rect l="l" t="t" r="r" b="b"/>
                <a:pathLst>
                  <a:path w="996" h="1">
                    <a:moveTo>
                      <a:pt x="0" y="0"/>
                    </a:moveTo>
                    <a:lnTo>
                      <a:pt x="99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880" y="5135400"/>
                <a:ext cx="36540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380880" y="5410080"/>
                <a:ext cx="36540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447920" y="4876920"/>
                <a:ext cx="76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λ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λ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6280" y="5410080"/>
                <a:ext cx="70164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λ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46280" y="4876920"/>
                <a:ext cx="549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λ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2514600" y="5181480"/>
              <a:ext cx="17366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avelenght multiplek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105520" y="4861080"/>
            <a:ext cx="2103480" cy="1006200"/>
            <a:chOff x="5105520" y="4861080"/>
            <a:chExt cx="2103480" cy="1006200"/>
          </a:xfrm>
        </p:grpSpPr>
        <p:sp>
          <p:nvSpPr>
            <p:cNvPr id="440" name=""/>
            <p:cNvSpPr/>
            <p:nvPr/>
          </p:nvSpPr>
          <p:spPr>
            <a:xfrm>
              <a:off x="5105520" y="5318280"/>
              <a:ext cx="1096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6202440" y="5043240"/>
              <a:ext cx="73188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02440" y="5318280"/>
              <a:ext cx="641160" cy="36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59640" y="5410080"/>
              <a:ext cx="45720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751800" y="5043240"/>
              <a:ext cx="4572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97320" y="5227560"/>
              <a:ext cx="640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05520" y="4906800"/>
              <a:ext cx="63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λ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72200" y="4861080"/>
              <a:ext cx="5796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48520" y="5592600"/>
              <a:ext cx="50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7167600" y="5181480"/>
            <a:ext cx="1738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avelenght demultiplek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7E8-1C8E-4275-B200-BA66F63F39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85800" y="1844640"/>
            <a:ext cx="2924280" cy="822240"/>
            <a:chOff x="685800" y="1844640"/>
            <a:chExt cx="2924280" cy="822240"/>
          </a:xfrm>
        </p:grpSpPr>
        <p:sp>
          <p:nvSpPr>
            <p:cNvPr id="453" name=""/>
            <p:cNvSpPr/>
            <p:nvPr/>
          </p:nvSpPr>
          <p:spPr>
            <a:xfrm>
              <a:off x="2311200" y="2293200"/>
              <a:ext cx="89388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11200" y="1844640"/>
              <a:ext cx="89388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91880" y="2068920"/>
              <a:ext cx="97524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11200" y="2367720"/>
              <a:ext cx="89388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11200" y="2143440"/>
              <a:ext cx="89388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10880" y="2068920"/>
              <a:ext cx="162360" cy="373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5800" y="2293200"/>
              <a:ext cx="650160" cy="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24080" y="1844640"/>
              <a:ext cx="162360" cy="373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24080" y="2293200"/>
              <a:ext cx="162360" cy="373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41280" y="2517480"/>
              <a:ext cx="568800" cy="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1280" y="1994040"/>
              <a:ext cx="568800" cy="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952880" y="1219320"/>
            <a:ext cx="3617640" cy="1336320"/>
            <a:chOff x="4952880" y="1219320"/>
            <a:chExt cx="3617640" cy="1336320"/>
          </a:xfrm>
        </p:grpSpPr>
        <p:sp>
          <p:nvSpPr>
            <p:cNvPr id="465" name=""/>
            <p:cNvSpPr/>
            <p:nvPr/>
          </p:nvSpPr>
          <p:spPr>
            <a:xfrm>
              <a:off x="5028120" y="2138400"/>
              <a:ext cx="3328920" cy="41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524280" y="1441800"/>
              <a:ext cx="392400" cy="69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59360" y="2333160"/>
              <a:ext cx="1664280" cy="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138400"/>
              <a:ext cx="150840" cy="41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276400" y="2138040"/>
              <a:ext cx="150840" cy="41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46320" y="1245600"/>
              <a:ext cx="148320" cy="392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6689880" y="1219320"/>
              <a:ext cx="360" cy="111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28120" y="2183040"/>
              <a:ext cx="325332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6855840" y="1553040"/>
              <a:ext cx="360" cy="593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329960" y="1401840"/>
              <a:ext cx="12405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ust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ółprzepuszczal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5840" y="1804320"/>
              <a:ext cx="832320" cy="44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441480" y="2138400"/>
              <a:ext cx="497160" cy="417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26960" y="5715000"/>
            <a:ext cx="3611520" cy="742680"/>
            <a:chOff x="426960" y="5715000"/>
            <a:chExt cx="3611520" cy="742680"/>
          </a:xfrm>
        </p:grpSpPr>
        <p:sp>
          <p:nvSpPr>
            <p:cNvPr id="478" name=""/>
            <p:cNvSpPr/>
            <p:nvPr/>
          </p:nvSpPr>
          <p:spPr>
            <a:xfrm>
              <a:off x="952920" y="5715000"/>
              <a:ext cx="396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81680" y="5872680"/>
              <a:ext cx="1655640" cy="58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75560" y="5948280"/>
              <a:ext cx="1700280" cy="433440"/>
            </a:xfrm>
            <a:custGeom>
              <a:avLst/>
              <a:gdLst/>
              <a:ahLst/>
              <a:rect l="l" t="t" r="r" b="b"/>
              <a:pathLst>
                <a:path w="3548" h="854">
                  <a:moveTo>
                    <a:pt x="0" y="56"/>
                  </a:moveTo>
                  <a:cubicBezTo>
                    <a:pt x="66" y="16"/>
                    <a:pt x="754" y="0"/>
                    <a:pt x="1044" y="8"/>
                  </a:cubicBezTo>
                  <a:cubicBezTo>
                    <a:pt x="1334" y="16"/>
                    <a:pt x="1534" y="62"/>
                    <a:pt x="1740" y="104"/>
                  </a:cubicBezTo>
                  <a:cubicBezTo>
                    <a:pt x="1946" y="146"/>
                    <a:pt x="2076" y="172"/>
                    <a:pt x="2280" y="260"/>
                  </a:cubicBezTo>
                  <a:cubicBezTo>
                    <a:pt x="2484" y="348"/>
                    <a:pt x="2766" y="540"/>
                    <a:pt x="2964" y="632"/>
                  </a:cubicBezTo>
                  <a:cubicBezTo>
                    <a:pt x="3162" y="724"/>
                    <a:pt x="3548" y="778"/>
                    <a:pt x="3468" y="812"/>
                  </a:cubicBezTo>
                  <a:cubicBezTo>
                    <a:pt x="3388" y="846"/>
                    <a:pt x="2778" y="854"/>
                    <a:pt x="2484" y="836"/>
                  </a:cubicBezTo>
                  <a:cubicBezTo>
                    <a:pt x="2190" y="818"/>
                    <a:pt x="2010" y="802"/>
                    <a:pt x="1704" y="704"/>
                  </a:cubicBezTo>
                  <a:cubicBezTo>
                    <a:pt x="1398" y="606"/>
                    <a:pt x="932" y="356"/>
                    <a:pt x="648" y="248"/>
                  </a:cubicBezTo>
                  <a:cubicBezTo>
                    <a:pt x="364" y="140"/>
                    <a:pt x="135" y="96"/>
                    <a:pt x="0" y="5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61560" y="6238440"/>
              <a:ext cx="138240" cy="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09680" y="5872680"/>
              <a:ext cx="0" cy="58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43440" y="6165360"/>
              <a:ext cx="193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29080" y="5946480"/>
              <a:ext cx="552240" cy="7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29080" y="6312240"/>
              <a:ext cx="552240" cy="7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6960" y="5973840"/>
              <a:ext cx="350280" cy="360"/>
            </a:xfrm>
            <a:custGeom>
              <a:avLst/>
              <a:gdLst/>
              <a:ahLst/>
              <a:rect l="l" t="t" r="r" b="b"/>
              <a:pathLst>
                <a:path w="732" h="1">
                  <a:moveTo>
                    <a:pt x="0" y="0"/>
                  </a:moveTo>
                  <a:lnTo>
                    <a:pt x="7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2360" y="6339240"/>
              <a:ext cx="338760" cy="360"/>
            </a:xfrm>
            <a:custGeom>
              <a:avLst/>
              <a:gdLst/>
              <a:ahLst/>
              <a:rect l="l" t="t" r="r" b="b"/>
              <a:pathLst>
                <a:path w="708" h="1">
                  <a:moveTo>
                    <a:pt x="708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37680" y="6312240"/>
              <a:ext cx="552240" cy="7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75960" y="6346800"/>
              <a:ext cx="362520" cy="360"/>
            </a:xfrm>
            <a:custGeom>
              <a:avLst/>
              <a:gdLst/>
              <a:ahLst/>
              <a:rect l="l" t="t" r="r" b="b"/>
              <a:pathLst>
                <a:path w="756" h="1">
                  <a:moveTo>
                    <a:pt x="0" y="0"/>
                  </a:moveTo>
                  <a:lnTo>
                    <a:pt x="75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81680" y="6007320"/>
              <a:ext cx="821880" cy="334800"/>
            </a:xfrm>
            <a:custGeom>
              <a:avLst/>
              <a:gdLst/>
              <a:ahLst/>
              <a:rect l="l" t="t" r="r" b="b"/>
              <a:pathLst>
                <a:path w="1716" h="660">
                  <a:moveTo>
                    <a:pt x="0" y="660"/>
                  </a:moveTo>
                  <a:cubicBezTo>
                    <a:pt x="74" y="638"/>
                    <a:pt x="282" y="586"/>
                    <a:pt x="444" y="528"/>
                  </a:cubicBezTo>
                  <a:cubicBezTo>
                    <a:pt x="606" y="470"/>
                    <a:pt x="822" y="380"/>
                    <a:pt x="972" y="312"/>
                  </a:cubicBezTo>
                  <a:cubicBezTo>
                    <a:pt x="1122" y="244"/>
                    <a:pt x="1220" y="172"/>
                    <a:pt x="1344" y="120"/>
                  </a:cubicBezTo>
                  <a:cubicBezTo>
                    <a:pt x="1468" y="68"/>
                    <a:pt x="1639" y="25"/>
                    <a:pt x="17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83120" y="6312240"/>
              <a:ext cx="827640" cy="52560"/>
            </a:xfrm>
            <a:custGeom>
              <a:avLst/>
              <a:gdLst/>
              <a:ahLst/>
              <a:rect l="l" t="t" r="r" b="b"/>
              <a:pathLst>
                <a:path w="1728" h="104">
                  <a:moveTo>
                    <a:pt x="0" y="48"/>
                  </a:moveTo>
                  <a:cubicBezTo>
                    <a:pt x="177" y="56"/>
                    <a:pt x="777" y="104"/>
                    <a:pt x="1065" y="96"/>
                  </a:cubicBezTo>
                  <a:cubicBezTo>
                    <a:pt x="1353" y="88"/>
                    <a:pt x="1590" y="20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27640" y="5946480"/>
              <a:ext cx="6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68600" y="6206760"/>
              <a:ext cx="83520" cy="45360"/>
            </a:xfrm>
            <a:custGeom>
              <a:avLst/>
              <a:gdLst/>
              <a:ahLst/>
              <a:rect l="l" t="t" r="r" b="b"/>
              <a:pathLst>
                <a:path w="132" h="72">
                  <a:moveTo>
                    <a:pt x="132" y="0"/>
                  </a:moveTo>
                  <a:lnTo>
                    <a:pt x="0" y="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06120" y="6359040"/>
              <a:ext cx="83520" cy="7560"/>
            </a:xfrm>
            <a:custGeom>
              <a:avLst/>
              <a:gdLst/>
              <a:ahLst/>
              <a:rect l="l" t="t" r="r" b="b"/>
              <a:pathLst>
                <a:path w="132" h="12">
                  <a:moveTo>
                    <a:pt x="132" y="0"/>
                  </a:move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33560" y="6165360"/>
              <a:ext cx="6912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54560" y="6384960"/>
              <a:ext cx="6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66960" y="6092640"/>
              <a:ext cx="3740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61240" y="6092640"/>
              <a:ext cx="3819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28600" y="3306240"/>
            <a:ext cx="3930120" cy="1646640"/>
            <a:chOff x="228600" y="3306240"/>
            <a:chExt cx="3930120" cy="1646640"/>
          </a:xfrm>
        </p:grpSpPr>
        <p:sp>
          <p:nvSpPr>
            <p:cNvPr id="500" name=""/>
            <p:cNvSpPr/>
            <p:nvPr/>
          </p:nvSpPr>
          <p:spPr>
            <a:xfrm>
              <a:off x="1245240" y="4482360"/>
              <a:ext cx="1965960" cy="47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91520" y="3953160"/>
              <a:ext cx="542160" cy="52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94560" y="3600720"/>
              <a:ext cx="135720" cy="35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11560" y="4658760"/>
              <a:ext cx="542160" cy="1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02720" y="4658760"/>
              <a:ext cx="542160" cy="1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2720" y="4717800"/>
              <a:ext cx="3051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991520" y="4482360"/>
              <a:ext cx="542160" cy="470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45240" y="4577400"/>
              <a:ext cx="1967400" cy="283680"/>
            </a:xfrm>
            <a:custGeom>
              <a:avLst/>
              <a:gdLst/>
              <a:ahLst/>
              <a:rect l="l" t="t" r="r" b="b"/>
              <a:pathLst>
                <a:path w="4178" h="696">
                  <a:moveTo>
                    <a:pt x="0" y="348"/>
                  </a:moveTo>
                  <a:cubicBezTo>
                    <a:pt x="6" y="242"/>
                    <a:pt x="692" y="110"/>
                    <a:pt x="1200" y="60"/>
                  </a:cubicBezTo>
                  <a:cubicBezTo>
                    <a:pt x="1708" y="10"/>
                    <a:pt x="2552" y="0"/>
                    <a:pt x="3048" y="48"/>
                  </a:cubicBezTo>
                  <a:cubicBezTo>
                    <a:pt x="3544" y="96"/>
                    <a:pt x="4178" y="250"/>
                    <a:pt x="4176" y="348"/>
                  </a:cubicBezTo>
                  <a:cubicBezTo>
                    <a:pt x="4174" y="446"/>
                    <a:pt x="3528" y="586"/>
                    <a:pt x="3036" y="636"/>
                  </a:cubicBezTo>
                  <a:cubicBezTo>
                    <a:pt x="2544" y="686"/>
                    <a:pt x="1730" y="696"/>
                    <a:pt x="1224" y="648"/>
                  </a:cubicBezTo>
                  <a:cubicBezTo>
                    <a:pt x="718" y="600"/>
                    <a:pt x="255" y="410"/>
                    <a:pt x="0" y="34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58840" y="3952440"/>
              <a:ext cx="198000" cy="936720"/>
            </a:xfrm>
            <a:custGeom>
              <a:avLst/>
              <a:gdLst/>
              <a:ahLst/>
              <a:rect l="l" t="t" r="r" b="b"/>
              <a:pathLst>
                <a:path w="420" h="2294">
                  <a:moveTo>
                    <a:pt x="420" y="2"/>
                  </a:moveTo>
                  <a:cubicBezTo>
                    <a:pt x="404" y="26"/>
                    <a:pt x="374" y="0"/>
                    <a:pt x="324" y="146"/>
                  </a:cubicBezTo>
                  <a:cubicBezTo>
                    <a:pt x="274" y="292"/>
                    <a:pt x="174" y="520"/>
                    <a:pt x="120" y="878"/>
                  </a:cubicBezTo>
                  <a:cubicBezTo>
                    <a:pt x="66" y="1236"/>
                    <a:pt x="25" y="1999"/>
                    <a:pt x="0" y="229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274120" y="3958200"/>
              <a:ext cx="122400" cy="642240"/>
            </a:xfrm>
            <a:custGeom>
              <a:avLst/>
              <a:gdLst/>
              <a:ahLst/>
              <a:rect l="l" t="t" r="r" b="b"/>
              <a:pathLst>
                <a:path w="261" h="1572">
                  <a:moveTo>
                    <a:pt x="0" y="0"/>
                  </a:moveTo>
                  <a:cubicBezTo>
                    <a:pt x="22" y="70"/>
                    <a:pt x="89" y="158"/>
                    <a:pt x="132" y="420"/>
                  </a:cubicBezTo>
                  <a:cubicBezTo>
                    <a:pt x="175" y="682"/>
                    <a:pt x="234" y="1332"/>
                    <a:pt x="261" y="15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126880" y="4247280"/>
              <a:ext cx="0" cy="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2330640" y="4070520"/>
              <a:ext cx="0" cy="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87760" y="4600440"/>
              <a:ext cx="6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20440" y="4835520"/>
              <a:ext cx="6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37080" y="4835520"/>
              <a:ext cx="6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9040" y="4600440"/>
              <a:ext cx="6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8600" y="4717800"/>
              <a:ext cx="33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19960" y="4717800"/>
              <a:ext cx="33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2260800" y="33062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419720" y="2971800"/>
            <a:ext cx="4599000" cy="1589040"/>
            <a:chOff x="4419720" y="2971800"/>
            <a:chExt cx="4599000" cy="1589040"/>
          </a:xfrm>
        </p:grpSpPr>
        <p:sp>
          <p:nvSpPr>
            <p:cNvPr id="520" name=""/>
            <p:cNvSpPr/>
            <p:nvPr/>
          </p:nvSpPr>
          <p:spPr>
            <a:xfrm>
              <a:off x="4903920" y="3098160"/>
              <a:ext cx="3734640" cy="481320"/>
            </a:xfrm>
            <a:custGeom>
              <a:avLst/>
              <a:gdLst/>
              <a:ahLst/>
              <a:rect l="l" t="t" r="r" b="b"/>
              <a:pathLst>
                <a:path w="8232" h="866">
                  <a:moveTo>
                    <a:pt x="0" y="120"/>
                  </a:moveTo>
                  <a:cubicBezTo>
                    <a:pt x="388" y="222"/>
                    <a:pt x="1632" y="612"/>
                    <a:pt x="2328" y="732"/>
                  </a:cubicBezTo>
                  <a:cubicBezTo>
                    <a:pt x="3024" y="852"/>
                    <a:pt x="3512" y="866"/>
                    <a:pt x="4176" y="840"/>
                  </a:cubicBezTo>
                  <a:cubicBezTo>
                    <a:pt x="4840" y="814"/>
                    <a:pt x="5636" y="716"/>
                    <a:pt x="6312" y="576"/>
                  </a:cubicBezTo>
                  <a:cubicBezTo>
                    <a:pt x="6988" y="436"/>
                    <a:pt x="7832" y="120"/>
                    <a:pt x="823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09320" y="3447360"/>
              <a:ext cx="3723840" cy="376200"/>
            </a:xfrm>
            <a:custGeom>
              <a:avLst/>
              <a:gdLst/>
              <a:ahLst/>
              <a:rect l="l" t="t" r="r" b="b"/>
              <a:pathLst>
                <a:path w="8208" h="678">
                  <a:moveTo>
                    <a:pt x="0" y="156"/>
                  </a:moveTo>
                  <a:cubicBezTo>
                    <a:pt x="378" y="220"/>
                    <a:pt x="1608" y="456"/>
                    <a:pt x="2280" y="540"/>
                  </a:cubicBezTo>
                  <a:cubicBezTo>
                    <a:pt x="2952" y="624"/>
                    <a:pt x="3286" y="678"/>
                    <a:pt x="4032" y="660"/>
                  </a:cubicBezTo>
                  <a:cubicBezTo>
                    <a:pt x="4778" y="642"/>
                    <a:pt x="6060" y="542"/>
                    <a:pt x="6756" y="432"/>
                  </a:cubicBezTo>
                  <a:cubicBezTo>
                    <a:pt x="7452" y="322"/>
                    <a:pt x="7906" y="90"/>
                    <a:pt x="8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49560" y="3607200"/>
              <a:ext cx="1436760" cy="420120"/>
            </a:xfrm>
            <a:custGeom>
              <a:avLst/>
              <a:gdLst/>
              <a:ahLst/>
              <a:rect l="l" t="t" r="r" b="b"/>
              <a:pathLst>
                <a:path w="3166" h="756">
                  <a:moveTo>
                    <a:pt x="72" y="0"/>
                  </a:moveTo>
                  <a:cubicBezTo>
                    <a:pt x="304" y="40"/>
                    <a:pt x="986" y="170"/>
                    <a:pt x="1464" y="240"/>
                  </a:cubicBezTo>
                  <a:cubicBezTo>
                    <a:pt x="1942" y="310"/>
                    <a:pt x="2714" y="380"/>
                    <a:pt x="2940" y="420"/>
                  </a:cubicBezTo>
                  <a:cubicBezTo>
                    <a:pt x="3166" y="460"/>
                    <a:pt x="3006" y="466"/>
                    <a:pt x="2820" y="480"/>
                  </a:cubicBezTo>
                  <a:cubicBezTo>
                    <a:pt x="2634" y="494"/>
                    <a:pt x="2134" y="484"/>
                    <a:pt x="1824" y="504"/>
                  </a:cubicBezTo>
                  <a:cubicBezTo>
                    <a:pt x="1514" y="524"/>
                    <a:pt x="1264" y="558"/>
                    <a:pt x="960" y="600"/>
                  </a:cubicBezTo>
                  <a:cubicBezTo>
                    <a:pt x="656" y="642"/>
                    <a:pt x="200" y="724"/>
                    <a:pt x="0" y="7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33000" y="3870720"/>
              <a:ext cx="3871440" cy="356760"/>
            </a:xfrm>
            <a:custGeom>
              <a:avLst/>
              <a:gdLst/>
              <a:ahLst/>
              <a:rect l="l" t="t" r="r" b="b"/>
              <a:pathLst>
                <a:path w="8532" h="642">
                  <a:moveTo>
                    <a:pt x="0" y="378"/>
                  </a:moveTo>
                  <a:cubicBezTo>
                    <a:pt x="288" y="340"/>
                    <a:pt x="1166" y="208"/>
                    <a:pt x="1740" y="150"/>
                  </a:cubicBezTo>
                  <a:cubicBezTo>
                    <a:pt x="2314" y="92"/>
                    <a:pt x="3024" y="54"/>
                    <a:pt x="3444" y="30"/>
                  </a:cubicBezTo>
                  <a:cubicBezTo>
                    <a:pt x="3864" y="6"/>
                    <a:pt x="3966" y="2"/>
                    <a:pt x="4260" y="6"/>
                  </a:cubicBezTo>
                  <a:cubicBezTo>
                    <a:pt x="4554" y="10"/>
                    <a:pt x="4712" y="0"/>
                    <a:pt x="5208" y="54"/>
                  </a:cubicBezTo>
                  <a:cubicBezTo>
                    <a:pt x="5704" y="108"/>
                    <a:pt x="6682" y="232"/>
                    <a:pt x="7236" y="330"/>
                  </a:cubicBezTo>
                  <a:cubicBezTo>
                    <a:pt x="7790" y="428"/>
                    <a:pt x="8262" y="577"/>
                    <a:pt x="8532" y="6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215480" y="3513960"/>
              <a:ext cx="1450440" cy="613080"/>
            </a:xfrm>
            <a:custGeom>
              <a:avLst/>
              <a:gdLst/>
              <a:ahLst/>
              <a:rect l="l" t="t" r="r" b="b"/>
              <a:pathLst>
                <a:path w="3197" h="1104">
                  <a:moveTo>
                    <a:pt x="3137" y="0"/>
                  </a:moveTo>
                  <a:cubicBezTo>
                    <a:pt x="2951" y="64"/>
                    <a:pt x="2500" y="286"/>
                    <a:pt x="2021" y="384"/>
                  </a:cubicBezTo>
                  <a:cubicBezTo>
                    <a:pt x="1542" y="482"/>
                    <a:pt x="530" y="538"/>
                    <a:pt x="265" y="588"/>
                  </a:cubicBezTo>
                  <a:cubicBezTo>
                    <a:pt x="0" y="638"/>
                    <a:pt x="248" y="656"/>
                    <a:pt x="433" y="684"/>
                  </a:cubicBezTo>
                  <a:cubicBezTo>
                    <a:pt x="618" y="712"/>
                    <a:pt x="1042" y="716"/>
                    <a:pt x="1373" y="756"/>
                  </a:cubicBezTo>
                  <a:cubicBezTo>
                    <a:pt x="1704" y="796"/>
                    <a:pt x="2113" y="866"/>
                    <a:pt x="2417" y="924"/>
                  </a:cubicBezTo>
                  <a:cubicBezTo>
                    <a:pt x="2721" y="982"/>
                    <a:pt x="3035" y="1066"/>
                    <a:pt x="3197" y="110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38760" y="4067640"/>
              <a:ext cx="3865680" cy="493200"/>
            </a:xfrm>
            <a:custGeom>
              <a:avLst/>
              <a:gdLst/>
              <a:ahLst/>
              <a:rect l="l" t="t" r="r" b="b"/>
              <a:pathLst>
                <a:path w="8520" h="888">
                  <a:moveTo>
                    <a:pt x="0" y="600"/>
                  </a:moveTo>
                  <a:cubicBezTo>
                    <a:pt x="414" y="530"/>
                    <a:pt x="1846" y="276"/>
                    <a:pt x="2484" y="180"/>
                  </a:cubicBezTo>
                  <a:cubicBezTo>
                    <a:pt x="3122" y="84"/>
                    <a:pt x="3294" y="30"/>
                    <a:pt x="3828" y="24"/>
                  </a:cubicBezTo>
                  <a:cubicBezTo>
                    <a:pt x="4362" y="18"/>
                    <a:pt x="4906" y="0"/>
                    <a:pt x="5688" y="144"/>
                  </a:cubicBezTo>
                  <a:cubicBezTo>
                    <a:pt x="6470" y="288"/>
                    <a:pt x="7930" y="733"/>
                    <a:pt x="8520" y="8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11400" y="4080960"/>
              <a:ext cx="65520" cy="32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878720" y="3174840"/>
              <a:ext cx="65160" cy="356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600760" y="3108240"/>
              <a:ext cx="71640" cy="34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666280" y="4240800"/>
              <a:ext cx="65160" cy="31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4876920" y="4001040"/>
              <a:ext cx="39168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268600" y="4001040"/>
              <a:ext cx="414000" cy="226440"/>
            </a:xfrm>
            <a:custGeom>
              <a:avLst/>
              <a:gdLst/>
              <a:ahLst/>
              <a:rect l="l" t="t" r="r" b="b"/>
              <a:pathLst>
                <a:path w="912" h="408">
                  <a:moveTo>
                    <a:pt x="0" y="0"/>
                  </a:moveTo>
                  <a:lnTo>
                    <a:pt x="912" y="4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77200" y="3913920"/>
              <a:ext cx="440640" cy="313560"/>
            </a:xfrm>
            <a:custGeom>
              <a:avLst/>
              <a:gdLst/>
              <a:ahLst/>
              <a:rect l="l" t="t" r="r" b="b"/>
              <a:pathLst>
                <a:path w="972" h="564">
                  <a:moveTo>
                    <a:pt x="0" y="564"/>
                  </a:moveTo>
                  <a:lnTo>
                    <a:pt x="97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117840" y="3920760"/>
              <a:ext cx="261720" cy="15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876920" y="4160880"/>
              <a:ext cx="653400" cy="79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530320" y="3907440"/>
              <a:ext cx="718200" cy="333360"/>
            </a:xfrm>
            <a:custGeom>
              <a:avLst/>
              <a:gdLst/>
              <a:ahLst/>
              <a:rect l="l" t="t" r="r" b="b"/>
              <a:pathLst>
                <a:path w="1584" h="600">
                  <a:moveTo>
                    <a:pt x="0" y="600"/>
                  </a:moveTo>
                  <a:lnTo>
                    <a:pt x="158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265440" y="3894120"/>
              <a:ext cx="309960" cy="186480"/>
            </a:xfrm>
            <a:custGeom>
              <a:avLst/>
              <a:gdLst/>
              <a:ahLst/>
              <a:rect l="l" t="t" r="r" b="b"/>
              <a:pathLst>
                <a:path w="684" h="336">
                  <a:moveTo>
                    <a:pt x="0" y="0"/>
                  </a:moveTo>
                  <a:lnTo>
                    <a:pt x="684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75400" y="3873960"/>
              <a:ext cx="250560" cy="206640"/>
            </a:xfrm>
            <a:custGeom>
              <a:avLst/>
              <a:gdLst/>
              <a:ahLst/>
              <a:rect l="l" t="t" r="r" b="b"/>
              <a:pathLst>
                <a:path w="552" h="372">
                  <a:moveTo>
                    <a:pt x="0" y="372"/>
                  </a:moveTo>
                  <a:lnTo>
                    <a:pt x="5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20560" y="3867480"/>
              <a:ext cx="212040" cy="213120"/>
            </a:xfrm>
            <a:custGeom>
              <a:avLst/>
              <a:gdLst/>
              <a:ahLst/>
              <a:rect l="l" t="t" r="r" b="b"/>
              <a:pathLst>
                <a:path w="468" h="384">
                  <a:moveTo>
                    <a:pt x="0" y="0"/>
                  </a:moveTo>
                  <a:lnTo>
                    <a:pt x="468" y="3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032600" y="3920760"/>
              <a:ext cx="326880" cy="159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359840" y="3920760"/>
              <a:ext cx="391680" cy="3200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51520" y="4140720"/>
              <a:ext cx="658440" cy="100080"/>
            </a:xfrm>
            <a:custGeom>
              <a:avLst/>
              <a:gdLst/>
              <a:ahLst/>
              <a:rect l="l" t="t" r="r" b="b"/>
              <a:pathLst>
                <a:path w="1452" h="180">
                  <a:moveTo>
                    <a:pt x="0" y="180"/>
                  </a:moveTo>
                  <a:lnTo>
                    <a:pt x="14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421120" y="4147560"/>
              <a:ext cx="310320" cy="333000"/>
            </a:xfrm>
            <a:custGeom>
              <a:avLst/>
              <a:gdLst/>
              <a:ahLst/>
              <a:rect l="l" t="t" r="r" b="b"/>
              <a:pathLst>
                <a:path w="684" h="600">
                  <a:moveTo>
                    <a:pt x="0" y="0"/>
                  </a:moveTo>
                  <a:lnTo>
                    <a:pt x="684" y="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379560" y="3600000"/>
              <a:ext cx="326520" cy="48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6080" y="3600360"/>
              <a:ext cx="326160" cy="48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032600" y="3920760"/>
              <a:ext cx="261720" cy="15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92880" y="3920760"/>
              <a:ext cx="240480" cy="253080"/>
            </a:xfrm>
            <a:custGeom>
              <a:avLst/>
              <a:gdLst/>
              <a:ahLst/>
              <a:rect l="l" t="t" r="r" b="b"/>
              <a:pathLst>
                <a:path w="531" h="456">
                  <a:moveTo>
                    <a:pt x="0" y="0"/>
                  </a:moveTo>
                  <a:lnTo>
                    <a:pt x="531" y="4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38760" y="4027680"/>
              <a:ext cx="386640" cy="153000"/>
            </a:xfrm>
            <a:custGeom>
              <a:avLst/>
              <a:gdLst/>
              <a:ahLst/>
              <a:rect l="l" t="t" r="r" b="b"/>
              <a:pathLst>
                <a:path w="852" h="276">
                  <a:moveTo>
                    <a:pt x="0" y="276"/>
                  </a:moveTo>
                  <a:lnTo>
                    <a:pt x="8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936560" y="4027680"/>
              <a:ext cx="332280" cy="379440"/>
            </a:xfrm>
            <a:custGeom>
              <a:avLst/>
              <a:gdLst/>
              <a:ahLst/>
              <a:rect l="l" t="t" r="r" b="b"/>
              <a:pathLst>
                <a:path w="732" h="684">
                  <a:moveTo>
                    <a:pt x="0" y="0"/>
                  </a:moveTo>
                  <a:lnTo>
                    <a:pt x="732" y="6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274240" y="4320720"/>
              <a:ext cx="391680" cy="86040"/>
            </a:xfrm>
            <a:custGeom>
              <a:avLst/>
              <a:gdLst/>
              <a:ahLst/>
              <a:rect l="l" t="t" r="r" b="b"/>
              <a:pathLst>
                <a:path w="864" h="156">
                  <a:moveTo>
                    <a:pt x="0" y="156"/>
                  </a:moveTo>
                  <a:lnTo>
                    <a:pt x="86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21400" y="3894120"/>
              <a:ext cx="184680" cy="186480"/>
            </a:xfrm>
            <a:custGeom>
              <a:avLst/>
              <a:gdLst/>
              <a:ahLst/>
              <a:rect l="l" t="t" r="r" b="b"/>
              <a:pathLst>
                <a:path w="408" h="336">
                  <a:moveTo>
                    <a:pt x="0" y="0"/>
                  </a:moveTo>
                  <a:lnTo>
                    <a:pt x="408" y="3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06080" y="3540600"/>
              <a:ext cx="582120" cy="540000"/>
            </a:xfrm>
            <a:custGeom>
              <a:avLst/>
              <a:gdLst/>
              <a:ahLst/>
              <a:rect l="l" t="t" r="r" b="b"/>
              <a:pathLst>
                <a:path w="1284" h="972">
                  <a:moveTo>
                    <a:pt x="0" y="972"/>
                  </a:moveTo>
                  <a:lnTo>
                    <a:pt x="128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88560" y="3547080"/>
              <a:ext cx="332280" cy="187200"/>
            </a:xfrm>
            <a:custGeom>
              <a:avLst/>
              <a:gdLst/>
              <a:ahLst/>
              <a:rect l="l" t="t" r="r" b="b"/>
              <a:pathLst>
                <a:path w="732" h="336">
                  <a:moveTo>
                    <a:pt x="0" y="0"/>
                  </a:moveTo>
                  <a:lnTo>
                    <a:pt x="732" y="3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26600" y="3360240"/>
              <a:ext cx="385920" cy="380160"/>
            </a:xfrm>
            <a:custGeom>
              <a:avLst/>
              <a:gdLst/>
              <a:ahLst/>
              <a:rect l="l" t="t" r="r" b="b"/>
              <a:pathLst>
                <a:path w="852" h="684">
                  <a:moveTo>
                    <a:pt x="0" y="684"/>
                  </a:moveTo>
                  <a:lnTo>
                    <a:pt x="8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12520" y="3360240"/>
              <a:ext cx="402480" cy="166680"/>
            </a:xfrm>
            <a:custGeom>
              <a:avLst/>
              <a:gdLst/>
              <a:ahLst/>
              <a:rect l="l" t="t" r="r" b="b"/>
              <a:pathLst>
                <a:path w="888" h="300">
                  <a:moveTo>
                    <a:pt x="0" y="0"/>
                  </a:moveTo>
                  <a:lnTo>
                    <a:pt x="888" y="3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421120" y="3200400"/>
              <a:ext cx="244800" cy="319680"/>
            </a:xfrm>
            <a:custGeom>
              <a:avLst/>
              <a:gdLst/>
              <a:ahLst/>
              <a:rect l="l" t="t" r="r" b="b"/>
              <a:pathLst>
                <a:path w="540" h="576">
                  <a:moveTo>
                    <a:pt x="0" y="576"/>
                  </a:moveTo>
                  <a:lnTo>
                    <a:pt x="54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4421520" y="4240440"/>
              <a:ext cx="32652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8731800" y="3200400"/>
              <a:ext cx="26100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796600" y="4399560"/>
              <a:ext cx="19620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19720" y="4001040"/>
              <a:ext cx="274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11160" y="3245760"/>
              <a:ext cx="274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718480" y="2971800"/>
              <a:ext cx="3002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718480" y="4080960"/>
              <a:ext cx="274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553800" y="3680280"/>
              <a:ext cx="99000" cy="167400"/>
            </a:xfrm>
            <a:custGeom>
              <a:avLst/>
              <a:gdLst/>
              <a:ahLst/>
              <a:rect l="l" t="t" r="r" b="b"/>
              <a:pathLst>
                <a:path w="156" h="264">
                  <a:moveTo>
                    <a:pt x="0" y="264"/>
                  </a:moveTo>
                  <a:lnTo>
                    <a:pt x="15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125480" y="3601080"/>
              <a:ext cx="103320" cy="94320"/>
            </a:xfrm>
            <a:custGeom>
              <a:avLst/>
              <a:gdLst/>
              <a:ahLst/>
              <a:rect l="l" t="t" r="r" b="b"/>
              <a:pathLst>
                <a:path w="163" h="149">
                  <a:moveTo>
                    <a:pt x="0" y="149"/>
                  </a:move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59840" y="4001040"/>
              <a:ext cx="123840" cy="98280"/>
            </a:xfrm>
            <a:custGeom>
              <a:avLst/>
              <a:gdLst/>
              <a:ahLst/>
              <a:rect l="l" t="t" r="r" b="b"/>
              <a:pathLst>
                <a:path w="195" h="155">
                  <a:moveTo>
                    <a:pt x="0" y="0"/>
                  </a:moveTo>
                  <a:lnTo>
                    <a:pt x="195" y="1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241960" y="4648320"/>
            <a:ext cx="2378160" cy="1207440"/>
            <a:chOff x="5241960" y="4648320"/>
            <a:chExt cx="2378160" cy="1207440"/>
          </a:xfrm>
        </p:grpSpPr>
        <p:sp>
          <p:nvSpPr>
            <p:cNvPr id="567" name=""/>
            <p:cNvSpPr/>
            <p:nvPr/>
          </p:nvSpPr>
          <p:spPr>
            <a:xfrm>
              <a:off x="6156360" y="5522760"/>
              <a:ext cx="9604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Fibers op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476680" y="5148000"/>
              <a:ext cx="446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76680" y="5298840"/>
              <a:ext cx="446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76680" y="5398920"/>
              <a:ext cx="446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33840" y="4998960"/>
              <a:ext cx="428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127560" y="5049720"/>
              <a:ext cx="44640" cy="4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72200" y="5098680"/>
              <a:ext cx="428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95760" y="5106600"/>
              <a:ext cx="690840" cy="191880"/>
            </a:xfrm>
            <a:custGeom>
              <a:avLst/>
              <a:gdLst/>
              <a:ahLst/>
              <a:rect l="l" t="t" r="r" b="b"/>
              <a:pathLst>
                <a:path w="2292" h="552">
                  <a:moveTo>
                    <a:pt x="0" y="552"/>
                  </a:moveTo>
                  <a:cubicBezTo>
                    <a:pt x="382" y="460"/>
                    <a:pt x="1815" y="115"/>
                    <a:pt x="22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10160" y="5148000"/>
              <a:ext cx="690480" cy="196560"/>
            </a:xfrm>
            <a:custGeom>
              <a:avLst/>
              <a:gdLst/>
              <a:ahLst/>
              <a:rect l="l" t="t" r="r" b="b"/>
              <a:pathLst>
                <a:path w="2292" h="564">
                  <a:moveTo>
                    <a:pt x="0" y="564"/>
                  </a:moveTo>
                  <a:cubicBezTo>
                    <a:pt x="382" y="470"/>
                    <a:pt x="1814" y="118"/>
                    <a:pt x="22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99000" y="5098680"/>
              <a:ext cx="582840" cy="48960"/>
            </a:xfrm>
            <a:custGeom>
              <a:avLst/>
              <a:gdLst/>
              <a:ahLst/>
              <a:rect l="l" t="t" r="r" b="b"/>
              <a:pathLst>
                <a:path w="1932" h="144">
                  <a:moveTo>
                    <a:pt x="0" y="144"/>
                  </a:moveTo>
                  <a:lnTo>
                    <a:pt x="19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95760" y="5144760"/>
              <a:ext cx="555840" cy="53640"/>
            </a:xfrm>
            <a:custGeom>
              <a:avLst/>
              <a:gdLst/>
              <a:ahLst/>
              <a:rect l="l" t="t" r="r" b="b"/>
              <a:pathLst>
                <a:path w="1848" h="156">
                  <a:moveTo>
                    <a:pt x="0" y="156"/>
                  </a:moveTo>
                  <a:lnTo>
                    <a:pt x="184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491080" y="5198760"/>
              <a:ext cx="604800" cy="203040"/>
            </a:xfrm>
            <a:custGeom>
              <a:avLst/>
              <a:gdLst/>
              <a:ahLst/>
              <a:rect l="l" t="t" r="r" b="b"/>
              <a:pathLst>
                <a:path w="2004" h="588">
                  <a:moveTo>
                    <a:pt x="0" y="588"/>
                  </a:moveTo>
                  <a:lnTo>
                    <a:pt x="20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505480" y="5243400"/>
              <a:ext cx="619200" cy="207360"/>
            </a:xfrm>
            <a:custGeom>
              <a:avLst/>
              <a:gdLst/>
              <a:ahLst/>
              <a:rect l="l" t="t" r="r" b="b"/>
              <a:pathLst>
                <a:path w="2052" h="600">
                  <a:moveTo>
                    <a:pt x="0" y="600"/>
                  </a:moveTo>
                  <a:lnTo>
                    <a:pt x="20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97600" y="4941720"/>
              <a:ext cx="287280" cy="385200"/>
            </a:xfrm>
            <a:custGeom>
              <a:avLst/>
              <a:gdLst/>
              <a:ahLst/>
              <a:rect l="l" t="t" r="r" b="b"/>
              <a:pathLst>
                <a:path w="952" h="1116">
                  <a:moveTo>
                    <a:pt x="0" y="276"/>
                  </a:moveTo>
                  <a:cubicBezTo>
                    <a:pt x="14" y="248"/>
                    <a:pt x="24" y="152"/>
                    <a:pt x="84" y="108"/>
                  </a:cubicBezTo>
                  <a:cubicBezTo>
                    <a:pt x="144" y="64"/>
                    <a:pt x="240" y="0"/>
                    <a:pt x="360" y="12"/>
                  </a:cubicBezTo>
                  <a:cubicBezTo>
                    <a:pt x="480" y="24"/>
                    <a:pt x="708" y="64"/>
                    <a:pt x="804" y="180"/>
                  </a:cubicBezTo>
                  <a:cubicBezTo>
                    <a:pt x="900" y="296"/>
                    <a:pt x="952" y="572"/>
                    <a:pt x="936" y="708"/>
                  </a:cubicBezTo>
                  <a:cubicBezTo>
                    <a:pt x="920" y="844"/>
                    <a:pt x="814" y="928"/>
                    <a:pt x="708" y="996"/>
                  </a:cubicBezTo>
                  <a:cubicBezTo>
                    <a:pt x="602" y="1064"/>
                    <a:pt x="408" y="1116"/>
                    <a:pt x="300" y="1116"/>
                  </a:cubicBezTo>
                  <a:cubicBezTo>
                    <a:pt x="192" y="1116"/>
                    <a:pt x="110" y="1021"/>
                    <a:pt x="60" y="9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76800" y="4808160"/>
              <a:ext cx="677880" cy="136440"/>
            </a:xfrm>
            <a:custGeom>
              <a:avLst/>
              <a:gdLst/>
              <a:ahLst/>
              <a:rect l="l" t="t" r="r" b="b"/>
              <a:pathLst>
                <a:path w="2244" h="396">
                  <a:moveTo>
                    <a:pt x="0" y="396"/>
                  </a:moveTo>
                  <a:lnTo>
                    <a:pt x="22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27560" y="5148000"/>
              <a:ext cx="695520" cy="178920"/>
            </a:xfrm>
            <a:custGeom>
              <a:avLst/>
              <a:gdLst/>
              <a:ahLst/>
              <a:rect l="l" t="t" r="r" b="b"/>
              <a:pathLst>
                <a:path w="2304" h="516">
                  <a:moveTo>
                    <a:pt x="0" y="516"/>
                  </a:moveTo>
                  <a:lnTo>
                    <a:pt x="23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562600">
              <a:off x="6692400" y="4800240"/>
              <a:ext cx="217440" cy="34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84720" y="5198760"/>
              <a:ext cx="428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62640" y="5052600"/>
              <a:ext cx="690480" cy="42840"/>
            </a:xfrm>
            <a:custGeom>
              <a:avLst/>
              <a:gdLst/>
              <a:ahLst/>
              <a:rect l="l" t="t" r="r" b="b"/>
              <a:pathLst>
                <a:path w="2292" h="120">
                  <a:moveTo>
                    <a:pt x="2292" y="120"/>
                  </a:moveTo>
                  <a:cubicBezTo>
                    <a:pt x="2052" y="116"/>
                    <a:pt x="1234" y="116"/>
                    <a:pt x="852" y="96"/>
                  </a:cubicBezTo>
                  <a:cubicBezTo>
                    <a:pt x="470" y="76"/>
                    <a:pt x="177" y="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459400" y="4995720"/>
              <a:ext cx="690480" cy="53640"/>
            </a:xfrm>
            <a:custGeom>
              <a:avLst/>
              <a:gdLst/>
              <a:ahLst/>
              <a:rect l="l" t="t" r="r" b="b"/>
              <a:pathLst>
                <a:path w="2292" h="156">
                  <a:moveTo>
                    <a:pt x="2292" y="156"/>
                  </a:moveTo>
                  <a:cubicBezTo>
                    <a:pt x="2062" y="150"/>
                    <a:pt x="1294" y="134"/>
                    <a:pt x="912" y="108"/>
                  </a:cubicBezTo>
                  <a:cubicBezTo>
                    <a:pt x="530" y="82"/>
                    <a:pt x="190" y="2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80320" y="4705200"/>
              <a:ext cx="387360" cy="151920"/>
            </a:xfrm>
            <a:custGeom>
              <a:avLst/>
              <a:gdLst/>
              <a:ahLst/>
              <a:rect l="l" t="t" r="r" b="b"/>
              <a:pathLst>
                <a:path w="1284" h="444">
                  <a:moveTo>
                    <a:pt x="0" y="444"/>
                  </a:moveTo>
                  <a:cubicBezTo>
                    <a:pt x="90" y="416"/>
                    <a:pt x="314" y="350"/>
                    <a:pt x="528" y="276"/>
                  </a:cubicBezTo>
                  <a:cubicBezTo>
                    <a:pt x="742" y="202"/>
                    <a:pt x="1127" y="57"/>
                    <a:pt x="128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05520" y="4754160"/>
              <a:ext cx="384120" cy="156960"/>
            </a:xfrm>
            <a:custGeom>
              <a:avLst/>
              <a:gdLst/>
              <a:ahLst/>
              <a:rect l="l" t="t" r="r" b="b"/>
              <a:pathLst>
                <a:path w="1272" h="456">
                  <a:moveTo>
                    <a:pt x="0" y="456"/>
                  </a:moveTo>
                  <a:cubicBezTo>
                    <a:pt x="98" y="428"/>
                    <a:pt x="376" y="352"/>
                    <a:pt x="588" y="276"/>
                  </a:cubicBezTo>
                  <a:cubicBezTo>
                    <a:pt x="800" y="200"/>
                    <a:pt x="1130" y="58"/>
                    <a:pt x="1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10200" y="4800240"/>
              <a:ext cx="462240" cy="164880"/>
            </a:xfrm>
            <a:custGeom>
              <a:avLst/>
              <a:gdLst/>
              <a:ahLst/>
              <a:rect l="l" t="t" r="r" b="b"/>
              <a:pathLst>
                <a:path w="1536" h="480">
                  <a:moveTo>
                    <a:pt x="0" y="480"/>
                  </a:moveTo>
                  <a:cubicBezTo>
                    <a:pt x="74" y="464"/>
                    <a:pt x="300" y="416"/>
                    <a:pt x="444" y="384"/>
                  </a:cubicBezTo>
                  <a:cubicBezTo>
                    <a:pt x="588" y="352"/>
                    <a:pt x="722" y="328"/>
                    <a:pt x="864" y="288"/>
                  </a:cubicBezTo>
                  <a:cubicBezTo>
                    <a:pt x="1006" y="248"/>
                    <a:pt x="1184" y="192"/>
                    <a:pt x="1296" y="144"/>
                  </a:cubicBezTo>
                  <a:cubicBezTo>
                    <a:pt x="1408" y="96"/>
                    <a:pt x="1486" y="30"/>
                    <a:pt x="15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57960" y="4700520"/>
              <a:ext cx="428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02280" y="4751280"/>
              <a:ext cx="452520" cy="164520"/>
            </a:xfrm>
            <a:custGeom>
              <a:avLst/>
              <a:gdLst/>
              <a:ahLst/>
              <a:rect l="l" t="t" r="r" b="b"/>
              <a:pathLst>
                <a:path w="1500" h="480">
                  <a:moveTo>
                    <a:pt x="0" y="480"/>
                  </a:moveTo>
                  <a:cubicBezTo>
                    <a:pt x="54" y="470"/>
                    <a:pt x="164" y="454"/>
                    <a:pt x="312" y="420"/>
                  </a:cubicBezTo>
                  <a:cubicBezTo>
                    <a:pt x="460" y="386"/>
                    <a:pt x="720" y="324"/>
                    <a:pt x="888" y="276"/>
                  </a:cubicBezTo>
                  <a:cubicBezTo>
                    <a:pt x="1056" y="228"/>
                    <a:pt x="1218" y="178"/>
                    <a:pt x="1320" y="132"/>
                  </a:cubicBezTo>
                  <a:cubicBezTo>
                    <a:pt x="1422" y="86"/>
                    <a:pt x="1462" y="28"/>
                    <a:pt x="15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43640" y="4751280"/>
              <a:ext cx="44640" cy="4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913440" y="4997160"/>
              <a:ext cx="452520" cy="26640"/>
            </a:xfrm>
            <a:custGeom>
              <a:avLst/>
              <a:gdLst/>
              <a:ahLst/>
              <a:rect l="l" t="t" r="r" b="b"/>
              <a:pathLst>
                <a:path w="1500" h="78">
                  <a:moveTo>
                    <a:pt x="0" y="78"/>
                  </a:moveTo>
                  <a:cubicBezTo>
                    <a:pt x="82" y="70"/>
                    <a:pt x="294" y="54"/>
                    <a:pt x="492" y="42"/>
                  </a:cubicBezTo>
                  <a:cubicBezTo>
                    <a:pt x="690" y="30"/>
                    <a:pt x="1020" y="12"/>
                    <a:pt x="1188" y="6"/>
                  </a:cubicBezTo>
                  <a:cubicBezTo>
                    <a:pt x="1356" y="0"/>
                    <a:pt x="1435" y="6"/>
                    <a:pt x="1500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13440" y="5052600"/>
              <a:ext cx="446040" cy="20520"/>
            </a:xfrm>
            <a:custGeom>
              <a:avLst/>
              <a:gdLst/>
              <a:ahLst/>
              <a:rect l="l" t="t" r="r" b="b"/>
              <a:pathLst>
                <a:path w="1476" h="60">
                  <a:moveTo>
                    <a:pt x="0" y="60"/>
                  </a:moveTo>
                  <a:cubicBezTo>
                    <a:pt x="70" y="54"/>
                    <a:pt x="240" y="32"/>
                    <a:pt x="420" y="24"/>
                  </a:cubicBezTo>
                  <a:cubicBezTo>
                    <a:pt x="600" y="16"/>
                    <a:pt x="904" y="16"/>
                    <a:pt x="1080" y="12"/>
                  </a:cubicBezTo>
                  <a:cubicBezTo>
                    <a:pt x="1256" y="8"/>
                    <a:pt x="1394" y="2"/>
                    <a:pt x="14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43640" y="4998960"/>
              <a:ext cx="446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86520" y="4898880"/>
              <a:ext cx="372960" cy="53640"/>
            </a:xfrm>
            <a:custGeom>
              <a:avLst/>
              <a:gdLst/>
              <a:ahLst/>
              <a:rect l="l" t="t" r="r" b="b"/>
              <a:pathLst>
                <a:path w="1236" h="156">
                  <a:moveTo>
                    <a:pt x="0" y="156"/>
                  </a:moveTo>
                  <a:cubicBezTo>
                    <a:pt x="104" y="144"/>
                    <a:pt x="418" y="110"/>
                    <a:pt x="624" y="84"/>
                  </a:cubicBezTo>
                  <a:cubicBezTo>
                    <a:pt x="830" y="58"/>
                    <a:pt x="1109" y="17"/>
                    <a:pt x="12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4160" y="4952880"/>
              <a:ext cx="372960" cy="63000"/>
            </a:xfrm>
            <a:custGeom>
              <a:avLst/>
              <a:gdLst/>
              <a:ahLst/>
              <a:rect l="l" t="t" r="r" b="b"/>
              <a:pathLst>
                <a:path w="1236" h="180">
                  <a:moveTo>
                    <a:pt x="0" y="180"/>
                  </a:moveTo>
                  <a:cubicBezTo>
                    <a:pt x="44" y="174"/>
                    <a:pt x="58" y="162"/>
                    <a:pt x="264" y="132"/>
                  </a:cubicBezTo>
                  <a:cubicBezTo>
                    <a:pt x="470" y="102"/>
                    <a:pt x="1034" y="27"/>
                    <a:pt x="12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343640" y="4898880"/>
              <a:ext cx="446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62720" y="5024160"/>
              <a:ext cx="257400" cy="360"/>
            </a:xfrm>
            <a:custGeom>
              <a:avLst/>
              <a:gdLst/>
              <a:ahLst/>
              <a:rect l="l" t="t" r="r" b="b"/>
              <a:pathLst>
                <a:path w="852" h="1">
                  <a:moveTo>
                    <a:pt x="852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267160" y="4995720"/>
              <a:ext cx="187560" cy="28080"/>
            </a:xfrm>
            <a:custGeom>
              <a:avLst/>
              <a:gdLst/>
              <a:ahLst/>
              <a:rect l="l" t="t" r="r" b="b"/>
              <a:pathLst>
                <a:path w="624" h="84">
                  <a:moveTo>
                    <a:pt x="624" y="8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41960" y="5178240"/>
              <a:ext cx="257040" cy="20160"/>
            </a:xfrm>
            <a:custGeom>
              <a:avLst/>
              <a:gdLst/>
              <a:ahLst/>
              <a:rect l="l" t="t" r="r" b="b"/>
              <a:pathLst>
                <a:path w="852" h="60">
                  <a:moveTo>
                    <a:pt x="852" y="0"/>
                  </a:moveTo>
                  <a:lnTo>
                    <a:pt x="0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67160" y="5322600"/>
              <a:ext cx="231840" cy="63360"/>
            </a:xfrm>
            <a:custGeom>
              <a:avLst/>
              <a:gdLst/>
              <a:ahLst/>
              <a:rect l="l" t="t" r="r" b="b"/>
              <a:pathLst>
                <a:path w="768" h="180">
                  <a:moveTo>
                    <a:pt x="768" y="0"/>
                  </a:moveTo>
                  <a:lnTo>
                    <a:pt x="0" y="1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273640" y="5427360"/>
              <a:ext cx="225360" cy="102960"/>
            </a:xfrm>
            <a:custGeom>
              <a:avLst/>
              <a:gdLst/>
              <a:ahLst/>
              <a:rect l="l" t="t" r="r" b="b"/>
              <a:pathLst>
                <a:path w="744" h="300">
                  <a:moveTo>
                    <a:pt x="744" y="0"/>
                  </a:moveTo>
                  <a:lnTo>
                    <a:pt x="0" y="3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21200" y="4648320"/>
              <a:ext cx="85104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mixer-r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48400" y="5095800"/>
              <a:ext cx="531720" cy="405720"/>
            </a:xfrm>
            <a:custGeom>
              <a:avLst/>
              <a:gdLst/>
              <a:ahLst/>
              <a:rect l="l" t="t" r="r" b="b"/>
              <a:pathLst>
                <a:path w="1764" h="1176">
                  <a:moveTo>
                    <a:pt x="0" y="1176"/>
                  </a:moveTo>
                  <a:lnTo>
                    <a:pt x="176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972040" y="5352840"/>
              <a:ext cx="460440" cy="144000"/>
            </a:xfrm>
            <a:custGeom>
              <a:avLst/>
              <a:gdLst/>
              <a:ahLst/>
              <a:rect l="l" t="t" r="r" b="b"/>
              <a:pathLst>
                <a:path w="1524" h="420">
                  <a:moveTo>
                    <a:pt x="1524" y="42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6553080" y="5734080"/>
            <a:ext cx="2438280" cy="894960"/>
            <a:chOff x="6553080" y="5734080"/>
            <a:chExt cx="2438280" cy="894960"/>
          </a:xfrm>
        </p:grpSpPr>
        <p:sp>
          <p:nvSpPr>
            <p:cNvPr id="608" name=""/>
            <p:cNvSpPr/>
            <p:nvPr/>
          </p:nvSpPr>
          <p:spPr>
            <a:xfrm>
              <a:off x="6787800" y="6246720"/>
              <a:ext cx="446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787800" y="6395760"/>
              <a:ext cx="446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87800" y="6495840"/>
              <a:ext cx="446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744960" y="6097320"/>
              <a:ext cx="428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38680" y="6146640"/>
              <a:ext cx="446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83320" y="6195960"/>
              <a:ext cx="428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06880" y="6205320"/>
              <a:ext cx="690480" cy="190080"/>
            </a:xfrm>
            <a:custGeom>
              <a:avLst/>
              <a:gdLst/>
              <a:ahLst/>
              <a:rect l="l" t="t" r="r" b="b"/>
              <a:pathLst>
                <a:path w="2292" h="552">
                  <a:moveTo>
                    <a:pt x="0" y="552"/>
                  </a:moveTo>
                  <a:cubicBezTo>
                    <a:pt x="382" y="460"/>
                    <a:pt x="1815" y="115"/>
                    <a:pt x="22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21280" y="6246720"/>
              <a:ext cx="690480" cy="194760"/>
            </a:xfrm>
            <a:custGeom>
              <a:avLst/>
              <a:gdLst/>
              <a:ahLst/>
              <a:rect l="l" t="t" r="r" b="b"/>
              <a:pathLst>
                <a:path w="2292" h="564">
                  <a:moveTo>
                    <a:pt x="0" y="564"/>
                  </a:moveTo>
                  <a:cubicBezTo>
                    <a:pt x="382" y="470"/>
                    <a:pt x="1814" y="118"/>
                    <a:pt x="22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10120" y="6195960"/>
              <a:ext cx="582480" cy="50400"/>
            </a:xfrm>
            <a:custGeom>
              <a:avLst/>
              <a:gdLst/>
              <a:ahLst/>
              <a:rect l="l" t="t" r="r" b="b"/>
              <a:pathLst>
                <a:path w="1932" h="144">
                  <a:moveTo>
                    <a:pt x="0" y="144"/>
                  </a:moveTo>
                  <a:lnTo>
                    <a:pt x="19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06880" y="6242040"/>
              <a:ext cx="555840" cy="53640"/>
            </a:xfrm>
            <a:custGeom>
              <a:avLst/>
              <a:gdLst/>
              <a:ahLst/>
              <a:rect l="l" t="t" r="r" b="b"/>
              <a:pathLst>
                <a:path w="1848" h="156">
                  <a:moveTo>
                    <a:pt x="0" y="156"/>
                  </a:moveTo>
                  <a:lnTo>
                    <a:pt x="184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02200" y="6296040"/>
              <a:ext cx="604800" cy="202680"/>
            </a:xfrm>
            <a:custGeom>
              <a:avLst/>
              <a:gdLst/>
              <a:ahLst/>
              <a:rect l="l" t="t" r="r" b="b"/>
              <a:pathLst>
                <a:path w="2004" h="588">
                  <a:moveTo>
                    <a:pt x="0" y="588"/>
                  </a:moveTo>
                  <a:lnTo>
                    <a:pt x="20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16600" y="6341760"/>
              <a:ext cx="618840" cy="207720"/>
            </a:xfrm>
            <a:custGeom>
              <a:avLst/>
              <a:gdLst/>
              <a:ahLst/>
              <a:rect l="l" t="t" r="r" b="b"/>
              <a:pathLst>
                <a:path w="2052" h="600">
                  <a:moveTo>
                    <a:pt x="0" y="600"/>
                  </a:moveTo>
                  <a:lnTo>
                    <a:pt x="20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08720" y="6038640"/>
              <a:ext cx="287280" cy="385560"/>
            </a:xfrm>
            <a:custGeom>
              <a:avLst/>
              <a:gdLst/>
              <a:ahLst/>
              <a:rect l="l" t="t" r="r" b="b"/>
              <a:pathLst>
                <a:path w="952" h="1116">
                  <a:moveTo>
                    <a:pt x="0" y="276"/>
                  </a:moveTo>
                  <a:cubicBezTo>
                    <a:pt x="14" y="248"/>
                    <a:pt x="24" y="152"/>
                    <a:pt x="84" y="108"/>
                  </a:cubicBezTo>
                  <a:cubicBezTo>
                    <a:pt x="144" y="64"/>
                    <a:pt x="240" y="0"/>
                    <a:pt x="360" y="12"/>
                  </a:cubicBezTo>
                  <a:cubicBezTo>
                    <a:pt x="480" y="24"/>
                    <a:pt x="708" y="64"/>
                    <a:pt x="804" y="180"/>
                  </a:cubicBezTo>
                  <a:cubicBezTo>
                    <a:pt x="900" y="296"/>
                    <a:pt x="952" y="572"/>
                    <a:pt x="936" y="708"/>
                  </a:cubicBezTo>
                  <a:cubicBezTo>
                    <a:pt x="920" y="844"/>
                    <a:pt x="814" y="928"/>
                    <a:pt x="708" y="996"/>
                  </a:cubicBezTo>
                  <a:cubicBezTo>
                    <a:pt x="602" y="1064"/>
                    <a:pt x="408" y="1116"/>
                    <a:pt x="300" y="1116"/>
                  </a:cubicBezTo>
                  <a:cubicBezTo>
                    <a:pt x="192" y="1116"/>
                    <a:pt x="110" y="1021"/>
                    <a:pt x="60" y="9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87920" y="5905440"/>
              <a:ext cx="677880" cy="137520"/>
            </a:xfrm>
            <a:custGeom>
              <a:avLst/>
              <a:gdLst/>
              <a:ahLst/>
              <a:rect l="l" t="t" r="r" b="b"/>
              <a:pathLst>
                <a:path w="2244" h="396">
                  <a:moveTo>
                    <a:pt x="0" y="396"/>
                  </a:moveTo>
                  <a:lnTo>
                    <a:pt x="22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38680" y="6246720"/>
              <a:ext cx="695520" cy="177480"/>
            </a:xfrm>
            <a:custGeom>
              <a:avLst/>
              <a:gdLst/>
              <a:ahLst/>
              <a:rect l="l" t="t" r="r" b="b"/>
              <a:pathLst>
                <a:path w="2304" h="516">
                  <a:moveTo>
                    <a:pt x="0" y="516"/>
                  </a:moveTo>
                  <a:lnTo>
                    <a:pt x="23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20562600">
              <a:off x="8003880" y="5897520"/>
              <a:ext cx="217440" cy="348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95840" y="6296040"/>
              <a:ext cx="428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73760" y="6151320"/>
              <a:ext cx="690480" cy="41040"/>
            </a:xfrm>
            <a:custGeom>
              <a:avLst/>
              <a:gdLst/>
              <a:ahLst/>
              <a:rect l="l" t="t" r="r" b="b"/>
              <a:pathLst>
                <a:path w="2292" h="120">
                  <a:moveTo>
                    <a:pt x="2292" y="120"/>
                  </a:moveTo>
                  <a:cubicBezTo>
                    <a:pt x="2052" y="116"/>
                    <a:pt x="1234" y="116"/>
                    <a:pt x="852" y="96"/>
                  </a:cubicBezTo>
                  <a:cubicBezTo>
                    <a:pt x="470" y="76"/>
                    <a:pt x="177" y="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770520" y="6092640"/>
              <a:ext cx="690480" cy="53640"/>
            </a:xfrm>
            <a:custGeom>
              <a:avLst/>
              <a:gdLst/>
              <a:ahLst/>
              <a:rect l="l" t="t" r="r" b="b"/>
              <a:pathLst>
                <a:path w="2292" h="156">
                  <a:moveTo>
                    <a:pt x="2292" y="156"/>
                  </a:moveTo>
                  <a:cubicBezTo>
                    <a:pt x="2062" y="150"/>
                    <a:pt x="1294" y="134"/>
                    <a:pt x="912" y="108"/>
                  </a:cubicBezTo>
                  <a:cubicBezTo>
                    <a:pt x="530" y="82"/>
                    <a:pt x="190" y="2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78280" y="6092640"/>
              <a:ext cx="187560" cy="29880"/>
            </a:xfrm>
            <a:custGeom>
              <a:avLst/>
              <a:gdLst/>
              <a:ahLst/>
              <a:rect l="l" t="t" r="r" b="b"/>
              <a:pathLst>
                <a:path w="624" h="84">
                  <a:moveTo>
                    <a:pt x="624" y="8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53080" y="6275160"/>
              <a:ext cx="257040" cy="20520"/>
            </a:xfrm>
            <a:custGeom>
              <a:avLst/>
              <a:gdLst/>
              <a:ahLst/>
              <a:rect l="l" t="t" r="r" b="b"/>
              <a:pathLst>
                <a:path w="852" h="60">
                  <a:moveTo>
                    <a:pt x="852" y="0"/>
                  </a:moveTo>
                  <a:lnTo>
                    <a:pt x="0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578280" y="6421320"/>
              <a:ext cx="231840" cy="61560"/>
            </a:xfrm>
            <a:custGeom>
              <a:avLst/>
              <a:gdLst/>
              <a:ahLst/>
              <a:rect l="l" t="t" r="r" b="b"/>
              <a:pathLst>
                <a:path w="768" h="180">
                  <a:moveTo>
                    <a:pt x="768" y="0"/>
                  </a:moveTo>
                  <a:lnTo>
                    <a:pt x="0" y="1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88000" y="6524640"/>
              <a:ext cx="223560" cy="104400"/>
            </a:xfrm>
            <a:custGeom>
              <a:avLst/>
              <a:gdLst/>
              <a:ahLst/>
              <a:rect l="l" t="t" r="r" b="b"/>
              <a:pathLst>
                <a:path w="744" h="300">
                  <a:moveTo>
                    <a:pt x="744" y="0"/>
                  </a:moveTo>
                  <a:lnTo>
                    <a:pt x="0" y="3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10280" y="5751360"/>
              <a:ext cx="8506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mixer-r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473680" y="5734080"/>
              <a:ext cx="5176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mirr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107200" y="5905440"/>
              <a:ext cx="511200" cy="166320"/>
            </a:xfrm>
            <a:custGeom>
              <a:avLst/>
              <a:gdLst/>
              <a:ahLst/>
              <a:rect l="l" t="t" r="r" b="b"/>
              <a:pathLst>
                <a:path w="804" h="264">
                  <a:moveTo>
                    <a:pt x="804" y="0"/>
                  </a:moveTo>
                  <a:lnTo>
                    <a:pt x="0" y="2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D16-6D08-40E7-AD62-37C07925A4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2666880" y="4343400"/>
            <a:ext cx="2657520" cy="187308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838080" y="1828800"/>
            <a:ext cx="3292560" cy="17683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4"/>
          <a:stretch/>
        </p:blipFill>
        <p:spPr>
          <a:xfrm>
            <a:off x="5943600" y="1219320"/>
            <a:ext cx="1917720" cy="234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861-9443-45F8-A62D-F7EE83E31D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4248000" y="1143000"/>
            <a:ext cx="4133880" cy="179388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5486400" y="2986200"/>
            <a:ext cx="2879640" cy="38718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85800" y="17524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lishing cou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77320" y="2133720"/>
            <a:ext cx="7617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85800" y="38862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elting and stretching coupl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5410080"/>
            <a:ext cx="510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upler based on planar lightwave circuit (PLC)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838080" y="263520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ge of coupler manufactu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AD3-C60C-4C87-9563-A640A16AC8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209680" y="18108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971800" y="471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X / DM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GuoMux01" descr=""/>
          <p:cNvPicPr/>
          <p:nvPr/>
        </p:nvPicPr>
        <p:blipFill>
          <a:blip r:embed="rId2"/>
          <a:stretch/>
        </p:blipFill>
        <p:spPr>
          <a:xfrm>
            <a:off x="1371600" y="1235160"/>
            <a:ext cx="4114800" cy="2977920"/>
          </a:xfrm>
          <a:prstGeom prst="rect">
            <a:avLst/>
          </a:prstGeom>
          <a:ln w="0">
            <a:noFill/>
          </a:ln>
        </p:spPr>
      </p:pic>
      <p:pic>
        <p:nvPicPr>
          <p:cNvPr id="653" name="GuoMux02" descr=""/>
          <p:cNvPicPr/>
          <p:nvPr/>
        </p:nvPicPr>
        <p:blipFill>
          <a:blip r:embed="rId3"/>
          <a:stretch/>
        </p:blipFill>
        <p:spPr>
          <a:xfrm>
            <a:off x="1616040" y="4770360"/>
            <a:ext cx="5241960" cy="178272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1066680" y="3733920"/>
            <a:ext cx="144792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iber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990720" y="2238480"/>
            <a:ext cx="1447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iber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29000" y="198108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419720" y="1828800"/>
            <a:ext cx="1447560" cy="5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gra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E39-78F3-4A3C-A366-8329589DF0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209680" y="18108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971800" y="228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avelenght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066680" y="1506600"/>
            <a:ext cx="2895480" cy="1388520"/>
            <a:chOff x="1066680" y="1506600"/>
            <a:chExt cx="2895480" cy="1388520"/>
          </a:xfrm>
        </p:grpSpPr>
        <p:sp>
          <p:nvSpPr>
            <p:cNvPr id="663" name=""/>
            <p:cNvSpPr/>
            <p:nvPr/>
          </p:nvSpPr>
          <p:spPr>
            <a:xfrm>
              <a:off x="1881720" y="2102040"/>
              <a:ext cx="1264680" cy="59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146760" y="2498760"/>
              <a:ext cx="815400" cy="58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66680" y="2201760"/>
              <a:ext cx="815040" cy="58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66680" y="2498760"/>
              <a:ext cx="815040" cy="58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515320" y="2102040"/>
              <a:ext cx="0" cy="59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88920" y="2236320"/>
              <a:ext cx="619200" cy="302760"/>
            </a:xfrm>
            <a:custGeom>
              <a:avLst/>
              <a:gdLst/>
              <a:ahLst/>
              <a:rect l="l" t="t" r="r" b="b"/>
              <a:pathLst>
                <a:path w="986" h="444">
                  <a:moveTo>
                    <a:pt x="0" y="0"/>
                  </a:moveTo>
                  <a:cubicBezTo>
                    <a:pt x="92" y="16"/>
                    <a:pt x="400" y="54"/>
                    <a:pt x="564" y="96"/>
                  </a:cubicBezTo>
                  <a:cubicBezTo>
                    <a:pt x="728" y="138"/>
                    <a:pt x="986" y="204"/>
                    <a:pt x="984" y="252"/>
                  </a:cubicBezTo>
                  <a:cubicBezTo>
                    <a:pt x="982" y="300"/>
                    <a:pt x="716" y="352"/>
                    <a:pt x="552" y="384"/>
                  </a:cubicBezTo>
                  <a:cubicBezTo>
                    <a:pt x="388" y="416"/>
                    <a:pt x="115" y="432"/>
                    <a:pt x="0" y="4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15320" y="2400840"/>
              <a:ext cx="631440" cy="136440"/>
            </a:xfrm>
            <a:custGeom>
              <a:avLst/>
              <a:gdLst/>
              <a:ahLst/>
              <a:rect l="l" t="t" r="r" b="b"/>
              <a:pathLst>
                <a:path w="1008" h="200">
                  <a:moveTo>
                    <a:pt x="0" y="0"/>
                  </a:moveTo>
                  <a:cubicBezTo>
                    <a:pt x="64" y="28"/>
                    <a:pt x="216" y="136"/>
                    <a:pt x="384" y="168"/>
                  </a:cubicBezTo>
                  <a:cubicBezTo>
                    <a:pt x="552" y="200"/>
                    <a:pt x="878" y="187"/>
                    <a:pt x="1008" y="1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418920" y="2696040"/>
              <a:ext cx="4525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56680" y="2696040"/>
              <a:ext cx="4525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56680" y="1803240"/>
              <a:ext cx="63324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328920" y="2630880"/>
              <a:ext cx="54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156680" y="2136600"/>
              <a:ext cx="54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1066680" y="2630880"/>
              <a:ext cx="54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548720" y="1506600"/>
              <a:ext cx="1719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lens GR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30680" y="1705680"/>
              <a:ext cx="63324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33160" y="1807560"/>
              <a:ext cx="0" cy="29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2515320" y="1904760"/>
              <a:ext cx="360720" cy="39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0" name="FiltrMux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2789280" cy="327672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517680" y="3736800"/>
            <a:ext cx="4389120" cy="1201680"/>
            <a:chOff x="517680" y="3736800"/>
            <a:chExt cx="4389120" cy="1201680"/>
          </a:xfrm>
        </p:grpSpPr>
        <p:grpSp>
          <p:nvGrpSpPr>
            <p:cNvPr id="682" name=""/>
            <p:cNvGrpSpPr/>
            <p:nvPr/>
          </p:nvGrpSpPr>
          <p:grpSpPr>
            <a:xfrm>
              <a:off x="1461960" y="3736800"/>
              <a:ext cx="1311480" cy="1124280"/>
              <a:chOff x="1461960" y="3736800"/>
              <a:chExt cx="1311480" cy="1124280"/>
            </a:xfrm>
          </p:grpSpPr>
          <p:sp>
            <p:nvSpPr>
              <p:cNvPr id="683" name=""/>
              <p:cNvSpPr/>
              <p:nvPr/>
            </p:nvSpPr>
            <p:spPr>
              <a:xfrm rot="2246400">
                <a:off x="1431720" y="4115880"/>
                <a:ext cx="1371600" cy="3657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2246400">
                <a:off x="1432080" y="4206960"/>
                <a:ext cx="1371600" cy="182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883440" y="4722120"/>
              <a:ext cx="36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74880" y="4572720"/>
              <a:ext cx="3383280" cy="36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529360" y="4572720"/>
              <a:ext cx="274320" cy="36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74880" y="4664160"/>
              <a:ext cx="3383280" cy="182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17680" y="4755960"/>
              <a:ext cx="36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449600" y="47559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69440" y="4024440"/>
              <a:ext cx="640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2712240" y="4298760"/>
              <a:ext cx="640080" cy="45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 flipH="1" flipV="1">
            <a:off x="1339560" y="3657240"/>
            <a:ext cx="182520" cy="182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43000" y="4495680"/>
            <a:ext cx="579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914400" y="3505320"/>
            <a:ext cx="579600" cy="1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449600" y="4495680"/>
            <a:ext cx="5796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648320" y="1828800"/>
            <a:ext cx="106668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ber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724280" y="2374920"/>
            <a:ext cx="106704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IN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443-B721-4F95-BAEE-4BB0CB8183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1523880" y="2367000"/>
            <a:ext cx="5114880" cy="212400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1447920" y="495288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tical waveguide circuit structure of A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2FD3-8F1A-4DE3-BDE5-6EB64225E0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09680" y="18108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Lens G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219320" y="1447920"/>
            <a:ext cx="5029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croptic el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RIN Lens - GRadient INdex L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OC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 foc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920960" y="4648320"/>
            <a:ext cx="3336480" cy="1218600"/>
            <a:chOff x="1920960" y="4648320"/>
            <a:chExt cx="3336480" cy="1218600"/>
          </a:xfrm>
        </p:grpSpPr>
        <p:sp>
          <p:nvSpPr>
            <p:cNvPr id="710" name=""/>
            <p:cNvSpPr/>
            <p:nvPr/>
          </p:nvSpPr>
          <p:spPr>
            <a:xfrm>
              <a:off x="2999520" y="4811400"/>
              <a:ext cx="1276200" cy="821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71920" y="5133600"/>
              <a:ext cx="589680" cy="160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93360" y="5039640"/>
              <a:ext cx="205920" cy="354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06480" y="4819320"/>
              <a:ext cx="1765080" cy="342360"/>
            </a:xfrm>
            <a:custGeom>
              <a:avLst/>
              <a:gdLst/>
              <a:ahLst/>
              <a:rect l="l" t="t" r="r" b="b"/>
              <a:pathLst>
                <a:path w="2592" h="420">
                  <a:moveTo>
                    <a:pt x="0" y="420"/>
                  </a:moveTo>
                  <a:cubicBezTo>
                    <a:pt x="172" y="350"/>
                    <a:pt x="600" y="0"/>
                    <a:pt x="1032" y="0"/>
                  </a:cubicBezTo>
                  <a:cubicBezTo>
                    <a:pt x="1464" y="0"/>
                    <a:pt x="2267" y="332"/>
                    <a:pt x="2592" y="4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2706480" y="5279400"/>
              <a:ext cx="1765080" cy="342360"/>
            </a:xfrm>
            <a:custGeom>
              <a:avLst/>
              <a:gdLst/>
              <a:ahLst/>
              <a:rect l="l" t="t" r="r" b="b"/>
              <a:pathLst>
                <a:path w="2592" h="420">
                  <a:moveTo>
                    <a:pt x="0" y="420"/>
                  </a:moveTo>
                  <a:cubicBezTo>
                    <a:pt x="172" y="350"/>
                    <a:pt x="600" y="0"/>
                    <a:pt x="1032" y="0"/>
                  </a:cubicBezTo>
                  <a:cubicBezTo>
                    <a:pt x="1464" y="0"/>
                    <a:pt x="2267" y="332"/>
                    <a:pt x="2592" y="4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471920" y="4648320"/>
              <a:ext cx="557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166120" y="4692960"/>
              <a:ext cx="54000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71920" y="5396040"/>
              <a:ext cx="785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Fi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920960" y="5396040"/>
              <a:ext cx="7855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3078000" y="4877640"/>
              <a:ext cx="9000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093480" y="5522400"/>
              <a:ext cx="88200" cy="4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889080" y="5469120"/>
              <a:ext cx="986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87640" y="4939920"/>
              <a:ext cx="896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1600200" y="3048120"/>
            <a:ext cx="297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imen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nght: 3–3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iameter: 1-2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97A-503D-42A3-A7C9-62C06F53F9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209680" y="18108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533520" y="1371600"/>
            <a:ext cx="5680080" cy="2854440"/>
            <a:chOff x="533520" y="1371600"/>
            <a:chExt cx="5680080" cy="2854440"/>
          </a:xfrm>
        </p:grpSpPr>
        <p:pic>
          <p:nvPicPr>
            <p:cNvPr id="728" name="Faraday" descr=""/>
            <p:cNvPicPr/>
            <p:nvPr/>
          </p:nvPicPr>
          <p:blipFill>
            <a:blip r:embed="rId2"/>
            <a:stretch/>
          </p:blipFill>
          <p:spPr>
            <a:xfrm>
              <a:off x="1070640" y="1371600"/>
              <a:ext cx="4509720" cy="24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533520" y="3955680"/>
              <a:ext cx="568008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29000" y="4214880"/>
            <a:ext cx="5410080" cy="2795040"/>
            <a:chOff x="3429000" y="4214880"/>
            <a:chExt cx="5410080" cy="2795040"/>
          </a:xfrm>
        </p:grpSpPr>
        <p:pic>
          <p:nvPicPr>
            <p:cNvPr id="731" name="Izolator" descr=""/>
            <p:cNvPicPr/>
            <p:nvPr/>
          </p:nvPicPr>
          <p:blipFill>
            <a:blip r:embed="rId3"/>
            <a:stretch/>
          </p:blipFill>
          <p:spPr>
            <a:xfrm>
              <a:off x="3966120" y="4214880"/>
              <a:ext cx="4510080" cy="24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3429000" y="6739920"/>
              <a:ext cx="5410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so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514600" y="3124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netoop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38080" y="19051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 - magnetic field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3600" y="64008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ramagn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419720" y="41148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010280" y="4267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8229600" y="51055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809880" y="563868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ptical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48720" y="46782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ptical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238880" y="6095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5029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E99-5626-43F5-9002-8AC1A956CB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09680" y="18108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Attenu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1128600" y="1784520"/>
            <a:ext cx="2925720" cy="17478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4199040" y="1784520"/>
            <a:ext cx="2506680" cy="173664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4"/>
          <a:stretch/>
        </p:blipFill>
        <p:spPr>
          <a:xfrm>
            <a:off x="4329000" y="3703680"/>
            <a:ext cx="2247840" cy="147780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5"/>
          <a:stretch/>
        </p:blipFill>
        <p:spPr>
          <a:xfrm>
            <a:off x="1401840" y="3703680"/>
            <a:ext cx="2103480" cy="14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D3D6-1F3B-487A-8874-C19918D064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33520" y="1905120"/>
            <a:ext cx="8180640" cy="4114800"/>
            <a:chOff x="533520" y="1905120"/>
            <a:chExt cx="8180640" cy="4114800"/>
          </a:xfrm>
        </p:grpSpPr>
        <p:sp>
          <p:nvSpPr>
            <p:cNvPr id="77" name=""/>
            <p:cNvSpPr/>
            <p:nvPr/>
          </p:nvSpPr>
          <p:spPr>
            <a:xfrm>
              <a:off x="2908080" y="4587840"/>
              <a:ext cx="32986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1893600" y="3848400"/>
              <a:ext cx="584028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33520" y="3573720"/>
              <a:ext cx="1206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Wavelength [nm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13280" y="4106880"/>
              <a:ext cx="1100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Frequency [Hz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10280" y="4106880"/>
              <a:ext cx="54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2x10</a:t>
              </a:r>
              <a:r>
                <a:rPr b="1" lang="de-DE" sz="10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55080" y="4106880"/>
              <a:ext cx="54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3x10</a:t>
              </a:r>
              <a:r>
                <a:rPr b="1" lang="de-DE" sz="10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40720" y="4106880"/>
              <a:ext cx="54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5x10</a:t>
              </a:r>
              <a:r>
                <a:rPr b="1" lang="de-DE" sz="10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63120" y="4106880"/>
              <a:ext cx="54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1x10</a:t>
              </a:r>
              <a:r>
                <a:rPr b="1" lang="de-DE" sz="1000" spc="-1" strike="noStrike" baseline="30000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20800" y="4496040"/>
              <a:ext cx="6203520" cy="60948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86240" y="4508640"/>
              <a:ext cx="1080" cy="673200"/>
            </a:xfrm>
            <a:prstGeom prst="line">
              <a:avLst/>
            </a:prstGeom>
            <a:ln w="12600">
              <a:solidFill>
                <a:srgbClr val="fc012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78520" y="4508640"/>
              <a:ext cx="1080" cy="673200"/>
            </a:xfrm>
            <a:prstGeom prst="line">
              <a:avLst/>
            </a:prstGeom>
            <a:ln w="12600">
              <a:solidFill>
                <a:srgbClr val="fc012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97720" y="4594320"/>
              <a:ext cx="849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c0128"/>
                  </a:solidFill>
                  <a:latin typeface="Arial"/>
                </a:rPr>
                <a:t>Infra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c0128"/>
                  </a:solidFill>
                  <a:latin typeface="Arial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3800" y="4594320"/>
              <a:ext cx="7610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c0128"/>
                  </a:solidFill>
                  <a:latin typeface="Arial"/>
                </a:rPr>
                <a:t>Vis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c0128"/>
                  </a:solidFill>
                  <a:latin typeface="Arial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1280" y="4594320"/>
              <a:ext cx="1058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c0128"/>
                  </a:solidFill>
                  <a:latin typeface="Arial"/>
                </a:rPr>
                <a:t>Ultraviol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c0128"/>
                  </a:solidFill>
                  <a:latin typeface="Arial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5286240" y="5334120"/>
              <a:ext cx="2261520" cy="685800"/>
              <a:chOff x="5286240" y="5334120"/>
              <a:chExt cx="2261520" cy="685800"/>
            </a:xfrm>
          </p:grpSpPr>
          <p:sp>
            <p:nvSpPr>
              <p:cNvPr id="92" name=""/>
              <p:cNvSpPr/>
              <p:nvPr/>
            </p:nvSpPr>
            <p:spPr>
              <a:xfrm>
                <a:off x="5286240" y="5334120"/>
                <a:ext cx="632160" cy="68580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56600" y="5334120"/>
                <a:ext cx="635040" cy="68580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30200" y="5334120"/>
                <a:ext cx="632160" cy="68580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100920" y="5334120"/>
                <a:ext cx="632160" cy="68580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71640" y="5334120"/>
                <a:ext cx="632160" cy="6858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41640" y="5334120"/>
                <a:ext cx="635400" cy="685800"/>
              </a:xfrm>
              <a:prstGeom prst="rect">
                <a:avLst/>
              </a:prstGeom>
              <a:solidFill>
                <a:srgbClr val="8901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915600" y="5334120"/>
                <a:ext cx="632160" cy="6858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5554440" y="1908360"/>
              <a:ext cx="1039680" cy="1407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4640" y="1905120"/>
              <a:ext cx="2814480" cy="1411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28640" y="2086200"/>
              <a:ext cx="42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Fiber optic transmission ran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79640" y="2595600"/>
              <a:ext cx="275076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r" pos="3714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Glass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Plas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r" pos="3714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850 -1630 nm</a:t>
              </a: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520-850 n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63640" y="3573720"/>
              <a:ext cx="6143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1800             1600            1400            1200             1000             800              600               400              2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avelength range of optical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57D-BF1D-41C6-B079-1EE1E2A41D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209680" y="18108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152280" y="2381400"/>
            <a:ext cx="8915400" cy="370512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133200" y="2362320"/>
            <a:ext cx="8858520" cy="3733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971800" y="228600"/>
            <a:ext cx="6172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Fiber Bragg dispersion compens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56AD-4714-460D-AEE2-626CD11F49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47760" y="22860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05320" y="17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ichle &amp; De-Mass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2"/>
          <a:srcRect l="2466" t="0" r="72932" b="60019"/>
          <a:stretch/>
        </p:blipFill>
        <p:spPr>
          <a:xfrm>
            <a:off x="2362320" y="167652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1752840" cy="65232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4"/>
          <a:stretch/>
        </p:blipFill>
        <p:spPr>
          <a:xfrm>
            <a:off x="2438280" y="3200400"/>
            <a:ext cx="1524240" cy="99540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5"/>
          <a:stretch/>
        </p:blipFill>
        <p:spPr>
          <a:xfrm>
            <a:off x="2438280" y="4343400"/>
            <a:ext cx="1700280" cy="59220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6"/>
          <a:stretch/>
        </p:blipFill>
        <p:spPr>
          <a:xfrm>
            <a:off x="2438280" y="5029200"/>
            <a:ext cx="1981440" cy="53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9AA8-4CFA-4AC1-A723-E999E4F4E4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4479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98108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from electricity to light is achieved by a electronic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D       (light emitting di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SEL  (Vertical Cavity Surface Emitting Las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ERS FP (Fabry - Per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modulated electrical signal in light modulated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ject light into fiber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lectricity t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AFE-D283-45C8-9F68-1B8DEF1003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905120"/>
            <a:ext cx="8381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 characteristics for transmission purpo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entral waveleng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0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50/1300/15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trum width (at ½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4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tion frequ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sequence of sl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803840" y="2771280"/>
            <a:ext cx="1440" cy="284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13200" y="5611680"/>
            <a:ext cx="362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25920" y="3287880"/>
            <a:ext cx="2186280" cy="2108160"/>
          </a:xfrm>
          <a:custGeom>
            <a:avLst/>
            <a:gdLst/>
            <a:ahLst/>
            <a:rect l="l" t="t" r="r" b="b"/>
            <a:pathLst>
              <a:path w="1277" h="240">
                <a:moveTo>
                  <a:pt x="0" y="232"/>
                </a:moveTo>
                <a:lnTo>
                  <a:pt x="22" y="232"/>
                </a:lnTo>
                <a:lnTo>
                  <a:pt x="52" y="240"/>
                </a:lnTo>
                <a:lnTo>
                  <a:pt x="74" y="240"/>
                </a:lnTo>
                <a:lnTo>
                  <a:pt x="103" y="240"/>
                </a:lnTo>
                <a:lnTo>
                  <a:pt x="125" y="232"/>
                </a:lnTo>
                <a:lnTo>
                  <a:pt x="155" y="232"/>
                </a:lnTo>
                <a:lnTo>
                  <a:pt x="177" y="224"/>
                </a:lnTo>
                <a:lnTo>
                  <a:pt x="207" y="216"/>
                </a:lnTo>
                <a:lnTo>
                  <a:pt x="229" y="208"/>
                </a:lnTo>
                <a:lnTo>
                  <a:pt x="258" y="200"/>
                </a:lnTo>
                <a:lnTo>
                  <a:pt x="280" y="184"/>
                </a:lnTo>
                <a:lnTo>
                  <a:pt x="310" y="168"/>
                </a:lnTo>
                <a:lnTo>
                  <a:pt x="339" y="152"/>
                </a:lnTo>
                <a:lnTo>
                  <a:pt x="362" y="136"/>
                </a:lnTo>
                <a:lnTo>
                  <a:pt x="391" y="112"/>
                </a:lnTo>
                <a:lnTo>
                  <a:pt x="421" y="96"/>
                </a:lnTo>
                <a:lnTo>
                  <a:pt x="443" y="72"/>
                </a:lnTo>
                <a:lnTo>
                  <a:pt x="472" y="48"/>
                </a:lnTo>
                <a:lnTo>
                  <a:pt x="495" y="32"/>
                </a:lnTo>
                <a:lnTo>
                  <a:pt x="524" y="24"/>
                </a:lnTo>
                <a:lnTo>
                  <a:pt x="546" y="16"/>
                </a:lnTo>
                <a:lnTo>
                  <a:pt x="576" y="8"/>
                </a:lnTo>
                <a:lnTo>
                  <a:pt x="598" y="0"/>
                </a:lnTo>
                <a:lnTo>
                  <a:pt x="627" y="0"/>
                </a:lnTo>
                <a:lnTo>
                  <a:pt x="650" y="0"/>
                </a:lnTo>
                <a:lnTo>
                  <a:pt x="679" y="0"/>
                </a:lnTo>
                <a:lnTo>
                  <a:pt x="701" y="8"/>
                </a:lnTo>
                <a:lnTo>
                  <a:pt x="731" y="16"/>
                </a:lnTo>
                <a:lnTo>
                  <a:pt x="753" y="32"/>
                </a:lnTo>
                <a:lnTo>
                  <a:pt x="782" y="48"/>
                </a:lnTo>
                <a:lnTo>
                  <a:pt x="805" y="64"/>
                </a:lnTo>
                <a:lnTo>
                  <a:pt x="834" y="88"/>
                </a:lnTo>
                <a:lnTo>
                  <a:pt x="856" y="104"/>
                </a:lnTo>
                <a:lnTo>
                  <a:pt x="878" y="120"/>
                </a:lnTo>
                <a:lnTo>
                  <a:pt x="908" y="144"/>
                </a:lnTo>
                <a:lnTo>
                  <a:pt x="930" y="160"/>
                </a:lnTo>
                <a:lnTo>
                  <a:pt x="960" y="168"/>
                </a:lnTo>
                <a:lnTo>
                  <a:pt x="989" y="184"/>
                </a:lnTo>
                <a:lnTo>
                  <a:pt x="1011" y="192"/>
                </a:lnTo>
                <a:lnTo>
                  <a:pt x="1041" y="208"/>
                </a:lnTo>
                <a:lnTo>
                  <a:pt x="1070" y="216"/>
                </a:lnTo>
                <a:lnTo>
                  <a:pt x="1100" y="216"/>
                </a:lnTo>
                <a:lnTo>
                  <a:pt x="1122" y="224"/>
                </a:lnTo>
                <a:lnTo>
                  <a:pt x="1152" y="232"/>
                </a:lnTo>
                <a:lnTo>
                  <a:pt x="1181" y="232"/>
                </a:lnTo>
                <a:lnTo>
                  <a:pt x="1211" y="232"/>
                </a:lnTo>
                <a:lnTo>
                  <a:pt x="1240" y="232"/>
                </a:lnTo>
                <a:lnTo>
                  <a:pt x="1277" y="232"/>
                </a:lnTo>
              </a:path>
            </a:pathLst>
          </a:custGeom>
          <a:noFill/>
          <a:ln w="25560">
            <a:solidFill>
              <a:srgbClr val="d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3880" y="29178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30680" y="5653080"/>
            <a:ext cx="113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58960" y="5680080"/>
            <a:ext cx="15537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velength n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3240" y="2514600"/>
            <a:ext cx="934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731840" y="3293640"/>
            <a:ext cx="1698840" cy="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54360" y="3024360"/>
            <a:ext cx="113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08760" y="4400640"/>
            <a:ext cx="942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68680" y="4133880"/>
            <a:ext cx="113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820760" y="439884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38000" y="4097160"/>
            <a:ext cx="7779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19240" y="2838600"/>
            <a:ext cx="900360" cy="297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01800" y="5665680"/>
            <a:ext cx="113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ght emitters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E4A-40D9-42DB-9E8D-818C3429F0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trum of a LASER or LED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197320" y="2133720"/>
            <a:ext cx="2349000" cy="3277080"/>
            <a:chOff x="5197320" y="2133720"/>
            <a:chExt cx="2349000" cy="3277080"/>
          </a:xfrm>
        </p:grpSpPr>
        <p:sp>
          <p:nvSpPr>
            <p:cNvPr id="134" name=""/>
            <p:cNvSpPr/>
            <p:nvPr/>
          </p:nvSpPr>
          <p:spPr>
            <a:xfrm>
              <a:off x="7257960" y="4775040"/>
              <a:ext cx="125640" cy="828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73" y="24"/>
                  </a:moveTo>
                  <a:lnTo>
                    <a:pt x="0" y="48"/>
                  </a:lnTo>
                  <a:lnTo>
                    <a:pt x="0" y="0"/>
                  </a:lnTo>
                  <a:lnTo>
                    <a:pt x="7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97320" y="4816440"/>
              <a:ext cx="2060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69560" y="2882880"/>
              <a:ext cx="1076760" cy="21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+5 to -10dB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36320" y="2133720"/>
              <a:ext cx="77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221520" y="2760120"/>
              <a:ext cx="25200" cy="2055960"/>
            </a:xfrm>
            <a:prstGeom prst="line">
              <a:avLst/>
            </a:prstGeom>
            <a:ln w="19080">
              <a:solidFill>
                <a:srgbClr val="d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46720" y="2760480"/>
              <a:ext cx="25560" cy="2055960"/>
            </a:xfrm>
            <a:prstGeom prst="line">
              <a:avLst/>
            </a:prstGeom>
            <a:ln w="19080">
              <a:solidFill>
                <a:srgbClr val="d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6040" y="3727440"/>
              <a:ext cx="127080" cy="8100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0" y="24"/>
                  </a:moveTo>
                  <a:lnTo>
                    <a:pt x="74" y="0"/>
                  </a:lnTo>
                  <a:lnTo>
                    <a:pt x="74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23120" y="3767040"/>
              <a:ext cx="530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5120" y="3713040"/>
              <a:ext cx="125640" cy="8100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74" y="24"/>
                  </a:moveTo>
                  <a:lnTo>
                    <a:pt x="0" y="48"/>
                  </a:lnTo>
                  <a:lnTo>
                    <a:pt x="0" y="0"/>
                  </a:lnTo>
                  <a:lnTo>
                    <a:pt x="7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04000" y="3754440"/>
              <a:ext cx="141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80280" y="3481200"/>
              <a:ext cx="50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-5n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6257880" y="4081320"/>
              <a:ext cx="2880" cy="925200"/>
              <a:chOff x="6257880" y="4081320"/>
              <a:chExt cx="2880" cy="925200"/>
            </a:xfrm>
          </p:grpSpPr>
          <p:sp>
            <p:nvSpPr>
              <p:cNvPr id="146" name=""/>
              <p:cNvSpPr/>
              <p:nvPr/>
            </p:nvSpPr>
            <p:spPr>
              <a:xfrm>
                <a:off x="6257880" y="4081320"/>
                <a:ext cx="2880" cy="10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57880" y="4244760"/>
                <a:ext cx="2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257880" y="4285080"/>
                <a:ext cx="2880" cy="10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257880" y="4448880"/>
                <a:ext cx="2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57880" y="4489560"/>
                <a:ext cx="2880" cy="10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257880" y="4653000"/>
                <a:ext cx="2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257880" y="4693680"/>
                <a:ext cx="2880" cy="10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257880" y="4857120"/>
                <a:ext cx="2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257880" y="4897800"/>
                <a:ext cx="2880" cy="10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6221520" y="5102280"/>
              <a:ext cx="10008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21520" y="5197320"/>
              <a:ext cx="10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140840" y="2147760"/>
            <a:ext cx="3007440" cy="3263040"/>
            <a:chOff x="1140840" y="2147760"/>
            <a:chExt cx="3007440" cy="3263040"/>
          </a:xfrm>
        </p:grpSpPr>
        <p:sp>
          <p:nvSpPr>
            <p:cNvPr id="158" name=""/>
            <p:cNvSpPr/>
            <p:nvPr/>
          </p:nvSpPr>
          <p:spPr>
            <a:xfrm>
              <a:off x="2849400" y="214776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140840" y="2502000"/>
              <a:ext cx="3007440" cy="2908800"/>
              <a:chOff x="1140840" y="2502000"/>
              <a:chExt cx="3007440" cy="2908800"/>
            </a:xfrm>
          </p:grpSpPr>
          <p:sp>
            <p:nvSpPr>
              <p:cNvPr id="160" name=""/>
              <p:cNvSpPr/>
              <p:nvPr/>
            </p:nvSpPr>
            <p:spPr>
              <a:xfrm>
                <a:off x="1925640" y="2502000"/>
                <a:ext cx="74520" cy="134640"/>
              </a:xfrm>
              <a:custGeom>
                <a:avLst/>
                <a:gdLst/>
                <a:ahLst/>
                <a:rect l="l" t="t" r="r" b="b"/>
                <a:pathLst>
                  <a:path w="44" h="80">
                    <a:moveTo>
                      <a:pt x="22" y="0"/>
                    </a:moveTo>
                    <a:lnTo>
                      <a:pt x="44" y="80"/>
                    </a:lnTo>
                    <a:lnTo>
                      <a:pt x="0" y="8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62000" y="2636640"/>
                <a:ext cx="1800" cy="2179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21200" y="4775040"/>
                <a:ext cx="127080" cy="8280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74" y="24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7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62000" y="4816440"/>
                <a:ext cx="20592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0840" y="2665440"/>
                <a:ext cx="596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nsi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485440" y="2835360"/>
                <a:ext cx="1181880" cy="213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222222"/>
                    </a:solidFill>
                    <a:latin typeface="Arial"/>
                  </a:rPr>
                  <a:t>-15 to -25 dB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962000" y="4216320"/>
                <a:ext cx="2186280" cy="409680"/>
              </a:xfrm>
              <a:custGeom>
                <a:avLst/>
                <a:gdLst/>
                <a:ahLst/>
                <a:rect l="l" t="t" r="r" b="b"/>
                <a:pathLst>
                  <a:path w="1277" h="240">
                    <a:moveTo>
                      <a:pt x="0" y="232"/>
                    </a:moveTo>
                    <a:lnTo>
                      <a:pt x="22" y="232"/>
                    </a:lnTo>
                    <a:lnTo>
                      <a:pt x="52" y="240"/>
                    </a:lnTo>
                    <a:lnTo>
                      <a:pt x="74" y="240"/>
                    </a:lnTo>
                    <a:lnTo>
                      <a:pt x="103" y="240"/>
                    </a:lnTo>
                    <a:lnTo>
                      <a:pt x="125" y="232"/>
                    </a:lnTo>
                    <a:lnTo>
                      <a:pt x="155" y="232"/>
                    </a:lnTo>
                    <a:lnTo>
                      <a:pt x="177" y="224"/>
                    </a:lnTo>
                    <a:lnTo>
                      <a:pt x="207" y="216"/>
                    </a:lnTo>
                    <a:lnTo>
                      <a:pt x="229" y="208"/>
                    </a:lnTo>
                    <a:lnTo>
                      <a:pt x="258" y="200"/>
                    </a:lnTo>
                    <a:lnTo>
                      <a:pt x="280" y="184"/>
                    </a:lnTo>
                    <a:lnTo>
                      <a:pt x="310" y="168"/>
                    </a:lnTo>
                    <a:lnTo>
                      <a:pt x="339" y="152"/>
                    </a:lnTo>
                    <a:lnTo>
                      <a:pt x="362" y="136"/>
                    </a:lnTo>
                    <a:lnTo>
                      <a:pt x="391" y="112"/>
                    </a:lnTo>
                    <a:lnTo>
                      <a:pt x="421" y="96"/>
                    </a:lnTo>
                    <a:lnTo>
                      <a:pt x="443" y="72"/>
                    </a:lnTo>
                    <a:lnTo>
                      <a:pt x="472" y="48"/>
                    </a:lnTo>
                    <a:lnTo>
                      <a:pt x="495" y="32"/>
                    </a:lnTo>
                    <a:lnTo>
                      <a:pt x="524" y="24"/>
                    </a:lnTo>
                    <a:lnTo>
                      <a:pt x="546" y="16"/>
                    </a:lnTo>
                    <a:lnTo>
                      <a:pt x="576" y="8"/>
                    </a:lnTo>
                    <a:lnTo>
                      <a:pt x="598" y="0"/>
                    </a:lnTo>
                    <a:lnTo>
                      <a:pt x="627" y="0"/>
                    </a:lnTo>
                    <a:lnTo>
                      <a:pt x="650" y="0"/>
                    </a:lnTo>
                    <a:lnTo>
                      <a:pt x="679" y="0"/>
                    </a:lnTo>
                    <a:lnTo>
                      <a:pt x="701" y="8"/>
                    </a:lnTo>
                    <a:lnTo>
                      <a:pt x="731" y="16"/>
                    </a:lnTo>
                    <a:lnTo>
                      <a:pt x="753" y="32"/>
                    </a:lnTo>
                    <a:lnTo>
                      <a:pt x="782" y="48"/>
                    </a:lnTo>
                    <a:lnTo>
                      <a:pt x="805" y="64"/>
                    </a:lnTo>
                    <a:lnTo>
                      <a:pt x="834" y="88"/>
                    </a:lnTo>
                    <a:lnTo>
                      <a:pt x="856" y="104"/>
                    </a:lnTo>
                    <a:lnTo>
                      <a:pt x="878" y="120"/>
                    </a:lnTo>
                    <a:lnTo>
                      <a:pt x="908" y="144"/>
                    </a:lnTo>
                    <a:lnTo>
                      <a:pt x="930" y="160"/>
                    </a:lnTo>
                    <a:lnTo>
                      <a:pt x="960" y="168"/>
                    </a:lnTo>
                    <a:lnTo>
                      <a:pt x="989" y="184"/>
                    </a:lnTo>
                    <a:lnTo>
                      <a:pt x="1011" y="192"/>
                    </a:lnTo>
                    <a:lnTo>
                      <a:pt x="1041" y="208"/>
                    </a:lnTo>
                    <a:lnTo>
                      <a:pt x="1070" y="216"/>
                    </a:lnTo>
                    <a:lnTo>
                      <a:pt x="1100" y="216"/>
                    </a:lnTo>
                    <a:lnTo>
                      <a:pt x="1122" y="224"/>
                    </a:lnTo>
                    <a:lnTo>
                      <a:pt x="1152" y="232"/>
                    </a:lnTo>
                    <a:lnTo>
                      <a:pt x="1181" y="232"/>
                    </a:lnTo>
                    <a:lnTo>
                      <a:pt x="1211" y="232"/>
                    </a:lnTo>
                    <a:lnTo>
                      <a:pt x="1240" y="232"/>
                    </a:lnTo>
                    <a:lnTo>
                      <a:pt x="1277" y="232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62000" y="4216320"/>
                <a:ext cx="2186280" cy="409680"/>
              </a:xfrm>
              <a:custGeom>
                <a:avLst/>
                <a:gdLst/>
                <a:ahLst/>
                <a:rect l="l" t="t" r="r" b="b"/>
                <a:pathLst>
                  <a:path w="1277" h="240">
                    <a:moveTo>
                      <a:pt x="0" y="232"/>
                    </a:moveTo>
                    <a:lnTo>
                      <a:pt x="22" y="232"/>
                    </a:lnTo>
                    <a:lnTo>
                      <a:pt x="52" y="240"/>
                    </a:lnTo>
                    <a:lnTo>
                      <a:pt x="74" y="240"/>
                    </a:lnTo>
                    <a:lnTo>
                      <a:pt x="103" y="240"/>
                    </a:lnTo>
                    <a:lnTo>
                      <a:pt x="125" y="232"/>
                    </a:lnTo>
                    <a:lnTo>
                      <a:pt x="155" y="232"/>
                    </a:lnTo>
                    <a:lnTo>
                      <a:pt x="177" y="224"/>
                    </a:lnTo>
                    <a:lnTo>
                      <a:pt x="207" y="216"/>
                    </a:lnTo>
                    <a:lnTo>
                      <a:pt x="229" y="208"/>
                    </a:lnTo>
                    <a:lnTo>
                      <a:pt x="258" y="200"/>
                    </a:lnTo>
                    <a:lnTo>
                      <a:pt x="280" y="184"/>
                    </a:lnTo>
                    <a:lnTo>
                      <a:pt x="310" y="168"/>
                    </a:lnTo>
                    <a:lnTo>
                      <a:pt x="339" y="152"/>
                    </a:lnTo>
                    <a:lnTo>
                      <a:pt x="362" y="136"/>
                    </a:lnTo>
                    <a:lnTo>
                      <a:pt x="391" y="112"/>
                    </a:lnTo>
                    <a:lnTo>
                      <a:pt x="421" y="96"/>
                    </a:lnTo>
                    <a:lnTo>
                      <a:pt x="443" y="72"/>
                    </a:lnTo>
                    <a:lnTo>
                      <a:pt x="472" y="48"/>
                    </a:lnTo>
                    <a:lnTo>
                      <a:pt x="495" y="32"/>
                    </a:lnTo>
                    <a:lnTo>
                      <a:pt x="524" y="24"/>
                    </a:lnTo>
                    <a:lnTo>
                      <a:pt x="546" y="16"/>
                    </a:lnTo>
                    <a:lnTo>
                      <a:pt x="576" y="8"/>
                    </a:lnTo>
                    <a:lnTo>
                      <a:pt x="598" y="0"/>
                    </a:lnTo>
                    <a:lnTo>
                      <a:pt x="627" y="0"/>
                    </a:lnTo>
                    <a:lnTo>
                      <a:pt x="650" y="0"/>
                    </a:lnTo>
                    <a:lnTo>
                      <a:pt x="679" y="0"/>
                    </a:lnTo>
                    <a:lnTo>
                      <a:pt x="701" y="8"/>
                    </a:lnTo>
                    <a:lnTo>
                      <a:pt x="731" y="16"/>
                    </a:lnTo>
                    <a:lnTo>
                      <a:pt x="753" y="32"/>
                    </a:lnTo>
                    <a:lnTo>
                      <a:pt x="782" y="48"/>
                    </a:lnTo>
                    <a:lnTo>
                      <a:pt x="805" y="64"/>
                    </a:lnTo>
                    <a:lnTo>
                      <a:pt x="834" y="88"/>
                    </a:lnTo>
                    <a:lnTo>
                      <a:pt x="856" y="104"/>
                    </a:lnTo>
                    <a:lnTo>
                      <a:pt x="878" y="120"/>
                    </a:lnTo>
                    <a:lnTo>
                      <a:pt x="908" y="144"/>
                    </a:lnTo>
                    <a:lnTo>
                      <a:pt x="930" y="160"/>
                    </a:lnTo>
                    <a:lnTo>
                      <a:pt x="960" y="168"/>
                    </a:lnTo>
                    <a:lnTo>
                      <a:pt x="989" y="184"/>
                    </a:lnTo>
                    <a:lnTo>
                      <a:pt x="1011" y="192"/>
                    </a:lnTo>
                    <a:lnTo>
                      <a:pt x="1041" y="208"/>
                    </a:lnTo>
                    <a:lnTo>
                      <a:pt x="1070" y="216"/>
                    </a:lnTo>
                    <a:lnTo>
                      <a:pt x="1100" y="216"/>
                    </a:lnTo>
                    <a:lnTo>
                      <a:pt x="1122" y="224"/>
                    </a:lnTo>
                    <a:lnTo>
                      <a:pt x="1152" y="232"/>
                    </a:lnTo>
                    <a:lnTo>
                      <a:pt x="1181" y="232"/>
                    </a:lnTo>
                    <a:lnTo>
                      <a:pt x="1211" y="232"/>
                    </a:lnTo>
                    <a:lnTo>
                      <a:pt x="1240" y="232"/>
                    </a:lnTo>
                    <a:lnTo>
                      <a:pt x="1277" y="232"/>
                    </a:lnTo>
                  </a:path>
                </a:pathLst>
              </a:custGeom>
              <a:noFill/>
              <a:ln w="19080">
                <a:solidFill>
                  <a:srgbClr val="dd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3035160" y="4203720"/>
                <a:ext cx="1800" cy="844200"/>
                <a:chOff x="3035160" y="4203720"/>
                <a:chExt cx="1800" cy="8442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035160" y="4203720"/>
                  <a:ext cx="180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035160" y="4366800"/>
                  <a:ext cx="180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35160" y="4407840"/>
                  <a:ext cx="180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035160" y="4571280"/>
                  <a:ext cx="180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035160" y="4611960"/>
                  <a:ext cx="180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035160" y="4775400"/>
                  <a:ext cx="180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035160" y="4816440"/>
                  <a:ext cx="180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035160" y="4980240"/>
                  <a:ext cx="180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035160" y="5020560"/>
                  <a:ext cx="1800" cy="27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3592440" y="3713040"/>
                <a:ext cx="1440" cy="761760"/>
                <a:chOff x="3592440" y="3713040"/>
                <a:chExt cx="1440" cy="761760"/>
              </a:xfrm>
            </p:grpSpPr>
            <p:sp>
              <p:nvSpPr>
                <p:cNvPr id="179" name=""/>
                <p:cNvSpPr/>
                <p:nvPr/>
              </p:nvSpPr>
              <p:spPr>
                <a:xfrm flipV="1">
                  <a:off x="3592440" y="4393440"/>
                  <a:ext cx="144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3592440" y="4257360"/>
                  <a:ext cx="144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3592440" y="4120920"/>
                  <a:ext cx="1440" cy="81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3592440" y="3984480"/>
                  <a:ext cx="1440" cy="81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3592440" y="3848400"/>
                  <a:ext cx="1440" cy="81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3592440" y="3713040"/>
                  <a:ext cx="144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519280" y="3713040"/>
                <a:ext cx="1440" cy="761760"/>
                <a:chOff x="2519280" y="3713040"/>
                <a:chExt cx="1440" cy="761760"/>
              </a:xfrm>
            </p:grpSpPr>
            <p:sp>
              <p:nvSpPr>
                <p:cNvPr id="186" name=""/>
                <p:cNvSpPr/>
                <p:nvPr/>
              </p:nvSpPr>
              <p:spPr>
                <a:xfrm flipV="1">
                  <a:off x="2519280" y="4393440"/>
                  <a:ext cx="144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V="1">
                  <a:off x="2519280" y="4257360"/>
                  <a:ext cx="144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2519280" y="4120920"/>
                  <a:ext cx="1440" cy="81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2519280" y="3984480"/>
                  <a:ext cx="1440" cy="81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>
                  <a:off x="2519280" y="3848400"/>
                  <a:ext cx="1440" cy="81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2519280" y="3713040"/>
                  <a:ext cx="144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519280" y="3713040"/>
                <a:ext cx="127080" cy="8100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0" y="24"/>
                    </a:moveTo>
                    <a:lnTo>
                      <a:pt x="74" y="0"/>
                    </a:lnTo>
                    <a:lnTo>
                      <a:pt x="74" y="4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65360" y="3713040"/>
                <a:ext cx="127080" cy="8100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74" y="24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7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46360" y="3754440"/>
                <a:ext cx="819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84520" y="3481200"/>
                <a:ext cx="974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60-100n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75040" y="5102280"/>
                <a:ext cx="10008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999520" y="519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889560" y="5867280"/>
            <a:ext cx="73159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frequency = different wavelength = different col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9D7-B9D3-4952-A686-482C5746F8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2362320"/>
            <a:ext cx="8381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level of light intensity available for transmiss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power is the mean value of the power during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available for transmission is also function of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er cor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erical aper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038480" y="4430520"/>
            <a:ext cx="4635000" cy="1207800"/>
            <a:chOff x="4038480" y="4430520"/>
            <a:chExt cx="4635000" cy="1207800"/>
          </a:xfrm>
        </p:grpSpPr>
        <p:sp>
          <p:nvSpPr>
            <p:cNvPr id="203" name=""/>
            <p:cNvSpPr/>
            <p:nvPr/>
          </p:nvSpPr>
          <p:spPr>
            <a:xfrm>
              <a:off x="4038480" y="4751280"/>
              <a:ext cx="1727280" cy="5652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44960" y="5276520"/>
              <a:ext cx="1719000" cy="522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65760" y="4768560"/>
              <a:ext cx="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25960" y="4905000"/>
              <a:ext cx="1635120" cy="272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22720" y="4892400"/>
              <a:ext cx="0" cy="27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757840" y="4638600"/>
              <a:ext cx="772920" cy="2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62520" y="5170320"/>
              <a:ext cx="790560" cy="2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40400" y="4635360"/>
              <a:ext cx="200160" cy="780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58200" y="4616280"/>
              <a:ext cx="2015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ght entrance con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.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Numerical Apertu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65760" y="5278320"/>
              <a:ext cx="10047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773680" y="4430520"/>
              <a:ext cx="941400" cy="3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1F24-6CB8-464C-9C38-F5E42CFA93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ated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2057400"/>
            <a:ext cx="8381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rate at which transmission changes intensity (logical 0 to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is function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is function of 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pe is characteristic of emitter (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D functions at lower frequency (longer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ERS at higher (shorter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influences modal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C1B-E4CE-4D9F-845E-27D67A2CE9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itters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8600" y="1693800"/>
          <a:ext cx="8667720" cy="3845160"/>
        </p:xfrm>
        <a:graphic>
          <a:graphicData uri="http://schemas.openxmlformats.org/drawingml/2006/table">
            <a:tbl>
              <a:tblPr/>
              <a:tblGrid>
                <a:gridCol w="1371600"/>
                <a:gridCol w="1216080"/>
                <a:gridCol w="1216080"/>
                <a:gridCol w="1215720"/>
                <a:gridCol w="1216080"/>
                <a:gridCol w="1238400"/>
                <a:gridCol w="1193760"/>
              </a:tblGrid>
              <a:tr h="75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t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th (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B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-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-1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200 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0 to -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G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 to 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S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to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G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 to 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 sp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$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to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G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 to 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O. 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586-B071-48D8-822E-AD2AC9F098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8:12:33Z</dcterms:created>
  <dc:creator>Piotrek</dc:creator>
  <dc:description/>
  <dc:language>en-US</dc:language>
  <cp:lastModifiedBy>x</cp:lastModifiedBy>
  <dcterms:modified xsi:type="dcterms:W3CDTF">2007-06-07T11:41:17Z</dcterms:modified>
  <cp:revision>22</cp:revision>
  <dc:subject/>
  <dc:title>Prezentacja programu PowerPoint</dc:title>
</cp:coreProperties>
</file>