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528-14EA-4641-A186-5AE21B6B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8F1-A17F-43F3-80C3-FF7E19DD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805-616E-4697-972E-07FD8FB0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44B-329C-4BF4-844D-BA6BFFF4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307-F71C-46F8-A148-3BE86A97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34E-5894-4FCD-894F-4BE0FAAF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8B3-2072-47D9-8DB4-B21CB976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8E1-52DB-42A9-9D76-180F2A09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0" y="32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520-0A5F-447F-94C1-7BE8D01F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799-57BD-4AC0-BFEF-FE6E99D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36F-869A-40BB-B177-72CD401B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0F5-1BFC-46F0-A4AF-5F48C549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C5AB-91DF-469A-88C4-11DE590F9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Program%20Files/EXFO/Toolbox/ToolBox6.exe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38280"/>
            <a:ext cx="7238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6600"/>
                </a:solidFill>
                <a:latin typeface="Arial"/>
              </a:rPr>
              <a:t>Polarisation Mode Disp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</a:t>
            </a:r>
            <a:r>
              <a:rPr b="1" lang="pl-PL" sz="3200" spc="-1" strike="noStrike">
                <a:solidFill>
                  <a:srgbClr val="ff6600"/>
                </a:solidFill>
                <a:latin typeface="Arial"/>
              </a:rPr>
              <a:t>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3905280"/>
            <a:ext cx="723888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99"/>
                </a:solidFill>
                <a:latin typeface="Tahoma"/>
              </a:rPr>
              <a:t>Piotr Turowi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oznan Supercomputing and Networking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iotrek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@</a:t>
            </a: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man.poznan.p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Ki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9-10 Octo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12C-A61D-428C-BD82-25AE1905F7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335240"/>
            <a:ext cx="6248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Equipment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TB-400 mainframe equipped with GP-4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TB-5500B PMD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LS-5800-xx series CD/PMD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oolbox office software 6.21 or higher installed on FTB-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43000" y="3968640"/>
            <a:ext cx="3429000" cy="2584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42040" y="4273560"/>
            <a:ext cx="180792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442-5422-43B2-B647-FA3075FF71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219320"/>
            <a:ext cx="83059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FLS-5800 series source should be powered-up and allowed to complete its self test routine (less than 30 seconds). The user then has to select wavelength range and then activate the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 band (nominally 1510 to 1560nm) and C+L band (nominally 1510 to 1610n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845820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spect and clean the connectors on the appropriate patch-cord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onnect to the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wer-on the FTB-400 and activate the FTB-5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onnect the patch-cord to the input on the FTB-5800 analyser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95F-B4A0-4B2E-8287-DD2201C909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onnecting and taking a measurement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73911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FLS-5800 series source should be powered-up and allowed to complete its self test rout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user then has to select wavelength range and then activate the source. There are two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 band (nominally 1510 to 1560nm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+L band (nominally 1510 to 1610n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429000"/>
            <a:ext cx="44193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wer-on the FTB-400 and activate the FTB-5500B PMD analyser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spect and clean the connectors on the appropriate patch-cord and connect to the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2687760"/>
            <a:ext cx="4419360" cy="333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355-FFD1-4BAF-951B-6442EFF9F2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onnecting and taking a measurement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5038560"/>
            <a:ext cx="3848040" cy="128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1447920"/>
            <a:ext cx="74678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eck the input power level on the analyzer software. This is a basic Go/No Go indication to indicate if useable power is present before starting. This will save you time in your testing as it will indicate whe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your source is truly activat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f you are connected to the correct f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a common problem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d can potentially tell you to use longer averaging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if the source signal is 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A1F-2CF4-43B2-BCD9-90D2DA7A49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onnecting and taking a measurement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5029200" cy="3790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1380960"/>
            <a:ext cx="38098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iber Parameter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ter the length of the link in km, select fibre type and select the wavelength range to match your FLS-5800 source settin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usual settings are either C+L band or O, C &amp; L. Check the display of the FLS-5800 series source to verif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4562640"/>
            <a:ext cx="876240" cy="542880"/>
          </a:xfrm>
          <a:custGeom>
            <a:avLst/>
            <a:gdLst/>
            <a:ahLst/>
            <a:rect l="l" t="t" r="r" b="b"/>
            <a:pathLst>
              <a:path w="552" h="342">
                <a:moveTo>
                  <a:pt x="0" y="0"/>
                </a:moveTo>
                <a:lnTo>
                  <a:pt x="552" y="34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14760" y="3038400"/>
            <a:ext cx="1457280" cy="1123920"/>
          </a:xfrm>
          <a:custGeom>
            <a:avLst/>
            <a:gdLst/>
            <a:ahLst/>
            <a:rect l="l" t="t" r="r" b="b"/>
            <a:pathLst>
              <a:path w="918" h="708">
                <a:moveTo>
                  <a:pt x="0" y="0"/>
                </a:moveTo>
                <a:lnTo>
                  <a:pt x="918" y="708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BDD-E799-4A8D-A7CF-ADDDDAFF39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onnecting and taking a measurement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1295280"/>
            <a:ext cx="38102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o begin a measurement, press the </a:t>
            </a:r>
            <a:r>
              <a:rPr b="0" lang="pl-P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REEN</a:t>
            </a:r>
            <a:r>
              <a:rPr b="0" lang="pl-PL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rt button. The software automatically switches to the Results Graph screen. Note - This screen shot shows the typical data AFTER acquisition has finished and the data analy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038480" y="2282760"/>
            <a:ext cx="4953240" cy="373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2A8-9476-47A9-BE8D-316AC50122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onnecting and taking a measurement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038480" y="2282760"/>
            <a:ext cx="4953240" cy="3737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1219320"/>
            <a:ext cx="37339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output of the measurement gives the resultant interferogram, the PMD Delay in [ps] and the PMD Coefficient in [ps/Sqrt_km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ditional information included in the output includes 2nd Order PMD, Length of sample and Wavelength range over which measurement has been per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C92-7B3D-4991-86B5-FD494A4A19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71800" y="228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2286000" cy="85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64C-946E-48E1-9AF6-B865DD3EA3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8:12:33Z</dcterms:created>
  <dc:creator>Piotrek</dc:creator>
  <dc:description/>
  <dc:language>en-US</dc:language>
  <cp:lastModifiedBy>x</cp:lastModifiedBy>
  <dcterms:modified xsi:type="dcterms:W3CDTF">2007-06-07T11:48:01Z</dcterms:modified>
  <cp:revision>25</cp:revision>
  <dc:subject/>
  <dc:title>Prezentacja programu PowerPoint</dc:title>
</cp:coreProperties>
</file>