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9.png" ContentType="image/png"/>
  <Override PartName="/ppt/media/image11.wmf" ContentType="image/x-wmf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.png" ContentType="image/png"/>
  <Override PartName="/ppt/media/image14.wmf" ContentType="image/x-wmf"/>
  <Override PartName="/ppt/media/image6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1715-CFDB-4A03-B809-402B406AF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748E-1B9D-40E1-A8B8-57DB8769E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042D-EEEB-4D2F-9935-D8F216675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8FC2-563A-4021-88BD-DC65990FC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0C56-F97B-4D30-981F-5F8B0038A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6E98-AB08-43C1-9DD7-4440FA9AB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09B0-9D3F-47E4-8A3D-B04F33B55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8438-46FB-4EF4-B1E5-BD3A0EC79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0" y="32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42A0-2910-4C34-958D-0D8A4D8EF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8D09-3BA5-40E9-8BE1-6F52A81E1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0F41-3A3A-49B0-9617-1E1578E1A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1EA1-96E5-4789-B2D8-95A28323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1A0C7-A91A-4D05-824C-B356BDF697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4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4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2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2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3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13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14.wmf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13.wmf"/><Relationship Id="rId28" Type="http://schemas.openxmlformats.org/officeDocument/2006/relationships/oleObject" Target="../embeddings/oleObject14.bin"/><Relationship Id="rId29" Type="http://schemas.openxmlformats.org/officeDocument/2006/relationships/image" Target="../media/image13.wmf"/><Relationship Id="rId30" Type="http://schemas.openxmlformats.org/officeDocument/2006/relationships/oleObject" Target="../embeddings/oleObject15.bin"/><Relationship Id="rId31" Type="http://schemas.openxmlformats.org/officeDocument/2006/relationships/image" Target="../media/image13.wmf"/><Relationship Id="rId3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5120" y="1295280"/>
            <a:ext cx="7238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00"/>
                </a:solidFill>
                <a:latin typeface="Tahoma"/>
              </a:rPr>
              <a:t>Optical Budge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28600" y="5257800"/>
            <a:ext cx="1447920" cy="7873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990800" y="6162840"/>
            <a:ext cx="24620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333399"/>
                </a:solidFill>
                <a:latin typeface="Arial"/>
              </a:rPr>
              <a:t>http://www.porta-optica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3880" y="3809880"/>
            <a:ext cx="7620120" cy="23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3399"/>
                </a:solidFill>
                <a:latin typeface="Tahoma"/>
              </a:rPr>
              <a:t>Piotr Turowi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33399"/>
                </a:solidFill>
                <a:latin typeface="Tahoma"/>
              </a:rPr>
              <a:t>Poznan Supercomputing and Networking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33399"/>
                </a:solidFill>
                <a:latin typeface="Tahoma"/>
              </a:rPr>
              <a:t>piotrek</a:t>
            </a: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@</a:t>
            </a:r>
            <a:r>
              <a:rPr b="1" lang="pl-PL" sz="1400" spc="-1" strike="noStrike">
                <a:solidFill>
                  <a:srgbClr val="333399"/>
                </a:solidFill>
                <a:latin typeface="Tahoma"/>
              </a:rPr>
              <a:t>man.poznan.pl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33399"/>
                </a:solidFill>
                <a:latin typeface="Tahoma"/>
              </a:rPr>
              <a:t>9-10 October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533F-0450-4EA1-B7D8-412DE54A2A9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71440" y="259920"/>
            <a:ext cx="61722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Fiber attenuation measu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557360" y="1676520"/>
            <a:ext cx="5834160" cy="18144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371600" y="380988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The cable under test will connect between the “launch patch” and the “receive patch”, in order to eliminate any non-cable related attenu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557C-DF82-4B80-A19D-F1EBA71515E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971440" y="259920"/>
            <a:ext cx="61722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Fiber attenuation measu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828800" y="3348000"/>
            <a:ext cx="5410080" cy="16812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600200" y="524196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Cable attenuation = (-3dbm) - (-10dbm) = 7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857240" y="1143000"/>
            <a:ext cx="5305680" cy="2097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33DB-0144-4F77-A475-DD3B2231CF1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39840" y="259920"/>
            <a:ext cx="6103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Optical network atten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1752480"/>
            <a:ext cx="769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ithout amplification, the maximum allowable loss in an all-optical network is given by the difference between the launch power and the receiver sensitiv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Allowable loss (dB) = Tx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_power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– Rx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_sensitiv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17680" y="4915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480060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3809880"/>
            <a:ext cx="723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f course, this value is true only if we connect transponders directly to the transmission fib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651C-A255-49A1-A2DF-FBC0BA9B882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39840" y="259920"/>
            <a:ext cx="6103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Optical network atten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7680" y="4915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23880" y="480060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120" y="1523880"/>
            <a:ext cx="701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t is very useful to be able to specify in dB an absolute power wi watts or in m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2422440"/>
            <a:ext cx="7010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o do this the power P2 in the dB formula is fixed at some agreed reference value, so the dB value always relates to this reference power le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3718080"/>
            <a:ext cx="70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llows for easy calculation of power at any point in a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4403880"/>
            <a:ext cx="70102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here the reference power is 1mW the power in an optical signal with a power level P is given in dB 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ower [dB] = 10 Log [P/1nW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419720"/>
            <a:ext cx="739116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4D57-09B4-4E00-A8AE-45ACAA6757B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39840" y="259920"/>
            <a:ext cx="6103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dBm calculation (Transit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14400" y="1676520"/>
            <a:ext cx="762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 transmitter laser has a measure output power of 2.3mW. What is the laser diode output power expressed in dB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47920" y="3124080"/>
            <a:ext cx="2438280" cy="5335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00200" y="32148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Transmitter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114800" y="3352680"/>
            <a:ext cx="7621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876920" y="320040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3m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90720" y="434340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wer [dB] = 10 Log (Power /1 m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90720" y="487692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wer [dB] = 10 Log (2.3mW /1 m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90720" y="541008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wer [dB] = 10 Log (2.3) = +3.61dB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825E-F90B-4FB8-BFB0-141FE703262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39840" y="259920"/>
            <a:ext cx="6103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dBm calculation (Transit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152388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2240" indent="-1922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dB and dBm can be combined in the same cal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196524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2240" indent="-1922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s shown a fiber span (inc. splices etc.) has a total attenuation of 13 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49876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2240" indent="-1922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f the trasmitter output power is +2 dBm what is the reciver input power in dB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3581280"/>
            <a:ext cx="1447920" cy="5335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62120" y="36720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Transmit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209680" y="3809880"/>
            <a:ext cx="7621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48120" y="3581280"/>
            <a:ext cx="2493720" cy="5335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36720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Fiber span: att 13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91320" y="3809880"/>
            <a:ext cx="76176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781680" y="3581280"/>
            <a:ext cx="1676520" cy="5335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0" y="36576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ec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52480" y="3124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3399"/>
                </a:solidFill>
                <a:latin typeface="Arial"/>
              </a:rPr>
              <a:t>+2 dB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410080" y="3124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3399"/>
                </a:solidFill>
                <a:latin typeface="Arial"/>
              </a:rPr>
              <a:t>? dB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3520" y="4556160"/>
            <a:ext cx="83818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Reciver input [dB] = Transmitter output power – Total fiber span at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Reciver input [dB] = +2 dBm – 13 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Reciver input [dB] = -11 dB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3EB2-E918-49DB-A548-0049A3419F1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971440" y="259920"/>
            <a:ext cx="61722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oint-to-Point link attenuation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943600" y="3835440"/>
            <a:ext cx="1413000" cy="19051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21240"/>
            <a:ext cx="8686800" cy="20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200"/>
              </a:lnSpc>
              <a:spcBef>
                <a:spcPts val="1250"/>
              </a:spcBef>
              <a:tabLst>
                <a:tab algn="l" pos="0"/>
                <a:tab algn="l" pos="2190600"/>
                <a:tab algn="l" pos="5715000"/>
                <a:tab algn="l" pos="7429680"/>
                <a:tab algn="r" pos="8477280"/>
                <a:tab algn="l" pos="9144000"/>
                <a:tab algn="l" pos="10058400"/>
              </a:tabLst>
            </a:pPr>
            <a:r>
              <a:rPr b="1" lang="de-CH" sz="2000" spc="-1" strike="noStrike" u="sng">
                <a:solidFill>
                  <a:srgbClr val="000000"/>
                </a:solidFill>
                <a:uFillTx/>
                <a:latin typeface="Arial"/>
              </a:rPr>
              <a:t>Components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spcBef>
                <a:spcPts val="1250"/>
              </a:spcBef>
              <a:tabLst>
                <a:tab algn="l" pos="0"/>
                <a:tab algn="l" pos="2190600"/>
                <a:tab algn="l" pos="5715000"/>
                <a:tab algn="l" pos="7429680"/>
                <a:tab algn="r" pos="847728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Fiber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M 9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/125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km at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5dB 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spcBef>
                <a:spcPts val="1250"/>
              </a:spcBef>
              <a:tabLst>
                <a:tab algn="l" pos="0"/>
                <a:tab algn="l" pos="2190600"/>
                <a:tab algn="l" pos="5715000"/>
                <a:tab algn="l" pos="7429680"/>
                <a:tab algn="r" pos="847728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onnector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3 pcs. at 0.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dB 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spcBef>
                <a:spcPts val="1250"/>
              </a:spcBef>
              <a:tabLst>
                <a:tab algn="l" pos="0"/>
                <a:tab algn="l" pos="2190600"/>
                <a:tab algn="l" pos="5715000"/>
                <a:tab algn="l" pos="7429680"/>
                <a:tab algn="r" pos="847728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plice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pcs. at 0.1dB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(0.15dB)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2000" spc="-1" strike="noStrike" u="sng">
                <a:solidFill>
                  <a:srgbClr val="000000"/>
                </a:solidFill>
                <a:uFillTx/>
                <a:latin typeface="Arial"/>
              </a:rPr>
              <a:t>0.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Arial"/>
              </a:rPr>
              <a:t>6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spcBef>
                <a:spcPts val="1250"/>
              </a:spcBef>
              <a:tabLst>
                <a:tab algn="l" pos="0"/>
                <a:tab algn="l" pos="2190600"/>
                <a:tab algn="l" pos="5715000"/>
                <a:tab algn="l" pos="7429680"/>
                <a:tab algn="r" pos="847728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Total attenuation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5.6 dB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507960" y="2128680"/>
          <a:ext cx="406440" cy="766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7960" y="2128680"/>
                    <a:ext cx="40644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7391520" y="2286000"/>
          <a:ext cx="406440" cy="406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391520" y="2286000"/>
                    <a:ext cx="406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2592360" y="2400480"/>
          <a:ext cx="227160" cy="226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592360" y="2400480"/>
                    <a:ext cx="227160" cy="22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1981080" y="2133720"/>
          <a:ext cx="551160" cy="406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81080" y="2133720"/>
                    <a:ext cx="55116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8190000" y="2128680"/>
          <a:ext cx="406440" cy="7668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8190000" y="2128680"/>
                    <a:ext cx="40644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2971800" y="2133720"/>
          <a:ext cx="550800" cy="4064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971800" y="2133720"/>
                    <a:ext cx="55080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6078600" y="2133720"/>
          <a:ext cx="550800" cy="4064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6078600" y="2133720"/>
                    <a:ext cx="55080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5033880" y="2286000"/>
          <a:ext cx="406440" cy="4064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033880" y="2286000"/>
                    <a:ext cx="406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1143000" y="2286000"/>
          <a:ext cx="406440" cy="4064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1143000" y="2286000"/>
                    <a:ext cx="406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914400" y="2997360"/>
            <a:ext cx="129528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2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514600" y="2971800"/>
            <a:ext cx="99072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2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Spl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38520" y="2921040"/>
            <a:ext cx="137160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2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934320" y="2895480"/>
            <a:ext cx="129528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2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19920" y="1752480"/>
            <a:ext cx="990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2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4 k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114800" y="1752480"/>
            <a:ext cx="99072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2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2 k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981080" y="1752480"/>
            <a:ext cx="68580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2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6136400">
            <a:off x="433800" y="2309040"/>
            <a:ext cx="582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ts val="23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T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16177800">
            <a:off x="8090640" y="2270520"/>
            <a:ext cx="658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ts val="23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R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1676520" y="2401920"/>
          <a:ext cx="226800" cy="2271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1676520" y="2401920"/>
                    <a:ext cx="226800" cy="2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659040" y="2390760"/>
          <a:ext cx="227160" cy="22716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3659040" y="2390760"/>
                    <a:ext cx="227160" cy="2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4114800" y="2133720"/>
          <a:ext cx="550800" cy="40644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4114800" y="2133720"/>
                    <a:ext cx="55080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4724280" y="2390760"/>
          <a:ext cx="227160" cy="22716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4724280" y="2390760"/>
                    <a:ext cx="227160" cy="2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5562720" y="2390760"/>
          <a:ext cx="226800" cy="22716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5562720" y="2390760"/>
                    <a:ext cx="226800" cy="2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6859440" y="2390760"/>
          <a:ext cx="227160" cy="22716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6859440" y="2390760"/>
                    <a:ext cx="227160" cy="2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838080" y="2514600"/>
            <a:ext cx="7391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971800" y="1752480"/>
            <a:ext cx="68580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2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ECFF-F131-40AA-A802-43C94DB72C2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7760" y="259920"/>
            <a:ext cx="60958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oint-to-Point link attenuation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1219320"/>
            <a:ext cx="792468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he table contains some typical numbers, which can be used to approximate optical link budget calculations. If at all possible, real numbers from the network in question should be used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209680" y="3429000"/>
            <a:ext cx="41911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371600" y="2438280"/>
          <a:ext cx="5105520" cy="3413160"/>
        </p:xfrm>
        <a:graphic>
          <a:graphicData uri="http://schemas.openxmlformats.org/drawingml/2006/table">
            <a:tbl>
              <a:tblPr/>
              <a:tblGrid>
                <a:gridCol w="4035600"/>
                <a:gridCol w="10699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for connector lo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 d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ical cable attenuation at 1310n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 d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ical cable attenuation at 1550n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5 d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ical splice attenu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 d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ical distance between spli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k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ical safety marg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d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) CD penal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d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3FDA-20E8-4785-AFD4-80C4AE1CE1E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971440" y="228600"/>
            <a:ext cx="6172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Optical Budget Calcul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981080" y="1752480"/>
            <a:ext cx="586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Minimum Transmit Power 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Minimum Receive Sensitivity 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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Available Power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 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" y="3200400"/>
            <a:ext cx="762012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_________ Km of cable    X _________ dB/km            = 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_________ Connectors      X _________ dB/Con.         = 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_________ Splices             X _________ dB/splice       = 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Link Margin = 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_________ Repair Splices X _________ dB/Splice       = 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afety Margin 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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Excess Power  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4D43-EEE0-43CD-A806-1937E5DC444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971440" y="228600"/>
            <a:ext cx="6172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Optical Budget Calcul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166680" y="1662120"/>
            <a:ext cx="8810640" cy="353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790F-00D2-4383-9EA0-2AE95C1AF1D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95120" y="22860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1704960"/>
            <a:ext cx="861048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9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hen planning a new network or expanding an exis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ne with WDM equipment, one of the first things to consider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distance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between the equipment no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9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Distance is related to fiber-optic parameters lik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71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9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disp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71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9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ttenu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9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recise attenuation calculations should take place at the planning st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9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he actual fiber optic cable attenuation should be measu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r calculated based on the cable vendor specifications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he network segments dista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19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9402-D524-4ECF-B0D2-9200093A99B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8120" y="30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505320" y="17668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Reichle &amp; De-Massar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rcRect l="2466" t="0" r="72932" b="60019"/>
          <a:stretch/>
        </p:blipFill>
        <p:spPr>
          <a:xfrm>
            <a:off x="2362320" y="1676520"/>
            <a:ext cx="1143000" cy="4572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2438280" y="2286000"/>
            <a:ext cx="1752840" cy="6523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2438280" y="3200400"/>
            <a:ext cx="1524240" cy="9954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2438280" y="4343400"/>
            <a:ext cx="1700280" cy="5922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2438280" y="5029200"/>
            <a:ext cx="1981440" cy="5364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228600" y="5257800"/>
            <a:ext cx="1447920" cy="7873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990800" y="6162840"/>
            <a:ext cx="24620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333399"/>
                </a:solidFill>
                <a:latin typeface="Arial"/>
              </a:rPr>
              <a:t>http://www.porta-optica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CD75-940B-41A6-A441-CF60D10F07C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1523880"/>
            <a:ext cx="85345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73160" indent="-173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bels (dB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used for power gain or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bels-milliwatt (dBm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used for output power and receive sensi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enu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loss of power in dB/k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romatic dispers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spreading of the light pulse in ps/nm*k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 Error Rate (BER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typical acceptable rate is 10</a:t>
            </a:r>
            <a:r>
              <a:rPr b="0" lang="en-US" sz="2000" spc="-1" strike="noStrike" baseline="44000">
                <a:solidFill>
                  <a:srgbClr val="000000"/>
                </a:solidFill>
                <a:latin typeface="Arial"/>
              </a:rPr>
              <a:t>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cal Signal to Noise Ratio (OSNR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ratio of optical signal power to noise power for the rece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U Grid Wavelength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standard for the lasers in DWDM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95120" y="22860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echnical design elements: Termi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E2B6-9F94-4C6C-9CC2-87A45F0FE14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5120" y="22860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echnical design elements: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Decibel s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171440"/>
            <a:ext cx="861084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9000"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9000"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he decibel (db) represents the logarithmic re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9000"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f two power levels P1 and P2 usually measured in wat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9000"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9000"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dB=10log(P1/P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9000"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9000"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ecibels also can measure power relative to certain lev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9000"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r example, when P2=0.001 Wat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9000"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he value units will be called “dBm”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9000"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hich means power related to 1 milliwat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9000"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9000"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dBm=10log(P1/1m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9000"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95480" y="228600"/>
            <a:ext cx="624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A8E2-F5FD-4446-A78B-2CD626F2D85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971800" y="181080"/>
            <a:ext cx="6172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ical Design Elements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cal 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1600200"/>
            <a:ext cx="76960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73160" indent="-1731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cal budget = Output power – Input sensi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cal budget is affected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ber atte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l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ch panels / conn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cal components (filters, amplifier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nds in the fi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mination (dirt, oil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166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066680" y="2133720"/>
            <a:ext cx="739152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A394-A99D-4F16-BE99-C0770C86A52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71800" y="181080"/>
            <a:ext cx="6172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ical Design Elements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 Penal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14400" y="1523880"/>
            <a:ext cx="77724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alty Rank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ber loss (attenu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l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ersion Penal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ber Nonlinearities Penal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nent / Fiber Aging Penal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orms the sign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is                                            to th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47200" y="1981080"/>
            <a:ext cx="2134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1913"/>
                </a:solidFill>
                <a:latin typeface="Arial"/>
              </a:rPr>
              <a:t>High to Low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1523880" y="20570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3600" y="3505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057400" y="4724280"/>
            <a:ext cx="1752480" cy="14274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5770440" y="4745160"/>
            <a:ext cx="1676520" cy="1349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6A74-73EA-4066-B1B6-4ED211DE22C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971800" y="181080"/>
            <a:ext cx="6172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ical Design Element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al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14400" y="1371600"/>
            <a:ext cx="7467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ttenua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ulse amplitude reduction limits “how far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hromatic Dispers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preading of the pulse from different colored light traveling at different speeds within the fi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olarization Mode Dispers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preading of the light pulse from fast and slow axes having different group veloc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981080" y="1828800"/>
            <a:ext cx="4681800" cy="762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1371600" y="3581280"/>
            <a:ext cx="6086520" cy="6858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1295280" y="5334120"/>
            <a:ext cx="6315120" cy="685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89F6-6EA7-48BC-BAAF-33D4CDA71EA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71440" y="259920"/>
            <a:ext cx="61722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Fiber attenuation measu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057400"/>
            <a:ext cx="76201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Fiber optic cables perform differently at various wavelength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o it’s cardinal to set the power meter at the correct wavel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s well as to match it with the light sour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For example, WDM technology uses the 1550 nm regio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o it’s more practical to test the cable with the same wavel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f 1550 nm, if we plan to use it for WDM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286C-CBB4-4ADF-A309-BFFB3D75F3A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971440" y="259920"/>
            <a:ext cx="61722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Fiber attenuation measu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219320" y="1284120"/>
            <a:ext cx="5305320" cy="20973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33520" y="3733920"/>
            <a:ext cx="8001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he first step is measuring the launched power from the transmitting device. Using “launch patch” instead of a direct connection to the transmitter eliminates the influence of the transmitter - cable connection attenuation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C358-218D-496C-A57B-89AA0E56B2E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3T08:12:33Z</dcterms:created>
  <dc:creator>Piotrek</dc:creator>
  <dc:description/>
  <dc:language>en-US</dc:language>
  <cp:lastModifiedBy>x</cp:lastModifiedBy>
  <dcterms:modified xsi:type="dcterms:W3CDTF">2007-06-07T11:42:09Z</dcterms:modified>
  <cp:revision>24</cp:revision>
  <dc:subject/>
  <dc:title>Prezentacja programu PowerPoint</dc:title>
</cp:coreProperties>
</file>